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F283-35AC-4CFC-9A3C-E73E80F72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AAE6-EC2A-4F7D-8E02-FEB59338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65E5-3C7B-446C-9C2A-EAB6D57CF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1887-77E1-4FF4-A066-4C0823439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F9E0-10C8-40B2-9469-2D946685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FABA-7936-47AF-841D-927645FD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A032-FD3F-4429-9612-BBE65B1D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FB71-6ED8-4946-943C-5AC32219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9D2D-3A6A-4375-9831-0697636E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C419-17E8-4C8F-AFCA-DB7B9345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7C4D-58E0-4FAF-ABAA-12D6B7DE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059B-5ECD-4861-9FFC-CD7D4E0E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BEBA-ECDF-4C69-9061-CBED6AA7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A22B-84F9-4BB6-95F4-3736097D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F06D-54BA-4E24-B81B-229D3297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F88E-2463-4B76-BE10-C61E5A2E8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A68F-673B-4DE4-821A-CD1BB934C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6244-2FF0-429B-9420-7FC3729F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9E8A-6CB0-4C82-987B-261DC0A9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BC7E-C40D-482F-9295-5F21AD85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9724-9B1B-4B30-8DE3-A93312C0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E9C6-D194-4CC3-AB77-BFFCAE45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357B-2EBB-48C7-93C2-85F89591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2E33-5F0C-42B2-BB55-F55FDD95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E2B7-44ED-4461-AF7F-58D18DF1D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8BAC-7515-4E35-8C0D-866BA652D1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stions from homework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pg 225 #1-1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te that a calculator assumes all logs are base 10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Log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98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e a calculator to evaluat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4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n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5 – Ln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Ink 4"/>
          <p:cNvSpPr/>
          <p:nvPr/>
        </p:nvSpPr>
        <p:spPr>
          <a:xfrm>
            <a:off x="2803680" y="1633680"/>
            <a:ext cx="590400" cy="376200"/>
          </a:xfrm>
          <a:custGeom>
            <a:avLst/>
            <a:gdLst/>
            <a:ahLst/>
            <a:rect l="l" t="t" r="r" b="b"/>
            <a:pathLst>
              <a:path w="1638" h="1043">
                <a:moveTo>
                  <a:pt x="7789" y="4961"/>
                </a:moveTo>
                <a:cubicBezTo>
                  <a:pt x="7991" y="4961"/>
                  <a:pt x="8184" y="4964"/>
                  <a:pt x="8384" y="4986"/>
                </a:cubicBezTo>
                <a:cubicBezTo>
                  <a:pt x="8434" y="4986"/>
                  <a:pt x="8451" y="4986"/>
                  <a:pt x="8384" y="4986"/>
                </a:cubicBezTo>
              </a:path>
              <a:path w="1638" h="1043">
                <a:moveTo>
                  <a:pt x="7863" y="5135"/>
                </a:moveTo>
                <a:cubicBezTo>
                  <a:pt x="7855" y="5143"/>
                  <a:pt x="7846" y="5151"/>
                  <a:pt x="7838" y="5159"/>
                </a:cubicBezTo>
                <a:cubicBezTo>
                  <a:pt x="7898" y="5195"/>
                  <a:pt x="7963" y="5184"/>
                  <a:pt x="8037" y="5184"/>
                </a:cubicBezTo>
                <a:cubicBezTo>
                  <a:pt x="8136" y="5184"/>
                  <a:pt x="8235" y="5184"/>
                  <a:pt x="8334" y="5184"/>
                </a:cubicBezTo>
              </a:path>
              <a:path w="1638" h="1043">
                <a:moveTo>
                  <a:pt x="8806" y="4688"/>
                </a:moveTo>
                <a:cubicBezTo>
                  <a:pt x="8842" y="4636"/>
                  <a:pt x="8884" y="4556"/>
                  <a:pt x="8954" y="4539"/>
                </a:cubicBezTo>
                <a:cubicBezTo>
                  <a:pt x="9032" y="4521"/>
                  <a:pt x="9119" y="4540"/>
                  <a:pt x="9178" y="4589"/>
                </a:cubicBezTo>
                <a:cubicBezTo>
                  <a:pt x="9233" y="4634"/>
                  <a:pt x="9244" y="4746"/>
                  <a:pt x="9227" y="4812"/>
                </a:cubicBezTo>
                <a:cubicBezTo>
                  <a:pt x="9206" y="4896"/>
                  <a:pt x="9189" y="4977"/>
                  <a:pt x="9153" y="5060"/>
                </a:cubicBezTo>
                <a:cubicBezTo>
                  <a:pt x="9115" y="5148"/>
                  <a:pt x="9052" y="5225"/>
                  <a:pt x="9004" y="5308"/>
                </a:cubicBezTo>
                <a:cubicBezTo>
                  <a:pt x="8958" y="5388"/>
                  <a:pt x="8883" y="5486"/>
                  <a:pt x="8806" y="5531"/>
                </a:cubicBezTo>
                <a:cubicBezTo>
                  <a:pt x="8769" y="5553"/>
                  <a:pt x="8674" y="5591"/>
                  <a:pt x="8632" y="5581"/>
                </a:cubicBezTo>
                <a:cubicBezTo>
                  <a:pt x="8583" y="5569"/>
                  <a:pt x="8514" y="5513"/>
                  <a:pt x="8533" y="5457"/>
                </a:cubicBezTo>
                <a:cubicBezTo>
                  <a:pt x="8566" y="5359"/>
                  <a:pt x="8666" y="5340"/>
                  <a:pt x="8756" y="5333"/>
                </a:cubicBezTo>
                <a:cubicBezTo>
                  <a:pt x="8799" y="5330"/>
                  <a:pt x="8910" y="5352"/>
                  <a:pt x="8930" y="5407"/>
                </a:cubicBezTo>
                <a:cubicBezTo>
                  <a:pt x="8958" y="5486"/>
                  <a:pt x="8920" y="5482"/>
                  <a:pt x="8979" y="5531"/>
                </a:cubicBezTo>
              </a:path>
              <a:path w="1638" h="1043">
                <a:moveTo>
                  <a:pt x="9401" y="5432"/>
                </a:moveTo>
                <a:cubicBezTo>
                  <a:pt x="9349" y="5484"/>
                  <a:pt x="9306" y="5521"/>
                  <a:pt x="9401" y="5507"/>
                </a:cubicBezTo>
                <a:cubicBezTo>
                  <a:pt x="9461" y="5386"/>
                  <a:pt x="9308" y="5520"/>
                  <a:pt x="9351" y="5531"/>
                </a:cubicBezTo>
                <a:cubicBezTo>
                  <a:pt x="9396" y="5543"/>
                  <a:pt x="9478" y="5406"/>
                  <a:pt x="9376" y="54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Ink 5"/>
          <p:cNvSpPr/>
          <p:nvPr/>
        </p:nvSpPr>
        <p:spPr>
          <a:xfrm>
            <a:off x="3616200" y="1598760"/>
            <a:ext cx="322560" cy="393480"/>
          </a:xfrm>
          <a:custGeom>
            <a:avLst/>
            <a:gdLst/>
            <a:ahLst/>
            <a:rect l="l" t="t" r="r" b="b"/>
            <a:pathLst>
              <a:path w="894" h="1092">
                <a:moveTo>
                  <a:pt x="10220" y="4490"/>
                </a:moveTo>
                <a:cubicBezTo>
                  <a:pt x="10192" y="4565"/>
                  <a:pt x="10194" y="4634"/>
                  <a:pt x="10170" y="4713"/>
                </a:cubicBezTo>
                <a:cubicBezTo>
                  <a:pt x="10139" y="4812"/>
                  <a:pt x="10142" y="4912"/>
                  <a:pt x="10120" y="5011"/>
                </a:cubicBezTo>
                <a:cubicBezTo>
                  <a:pt x="10100" y="5101"/>
                  <a:pt x="10076" y="5191"/>
                  <a:pt x="10071" y="5283"/>
                </a:cubicBezTo>
                <a:cubicBezTo>
                  <a:pt x="10070" y="5310"/>
                  <a:pt x="10046" y="5507"/>
                  <a:pt x="10046" y="5383"/>
                </a:cubicBezTo>
                <a:cubicBezTo>
                  <a:pt x="10046" y="5375"/>
                  <a:pt x="10046" y="5366"/>
                  <a:pt x="10046" y="5358"/>
                </a:cubicBezTo>
              </a:path>
              <a:path w="894" h="1092">
                <a:moveTo>
                  <a:pt x="10492" y="4440"/>
                </a:moveTo>
                <a:cubicBezTo>
                  <a:pt x="10492" y="4536"/>
                  <a:pt x="10498" y="4623"/>
                  <a:pt x="10468" y="4713"/>
                </a:cubicBezTo>
                <a:cubicBezTo>
                  <a:pt x="10437" y="4807"/>
                  <a:pt x="10414" y="4913"/>
                  <a:pt x="10393" y="5011"/>
                </a:cubicBezTo>
                <a:cubicBezTo>
                  <a:pt x="10376" y="5089"/>
                  <a:pt x="10344" y="5245"/>
                  <a:pt x="10368" y="5333"/>
                </a:cubicBezTo>
                <a:cubicBezTo>
                  <a:pt x="10383" y="5388"/>
                  <a:pt x="10435" y="5467"/>
                  <a:pt x="10492" y="5482"/>
                </a:cubicBezTo>
                <a:cubicBezTo>
                  <a:pt x="10565" y="5502"/>
                  <a:pt x="10652" y="5460"/>
                  <a:pt x="10716" y="5432"/>
                </a:cubicBezTo>
                <a:cubicBezTo>
                  <a:pt x="10799" y="5396"/>
                  <a:pt x="10845" y="5362"/>
                  <a:pt x="10889" y="5283"/>
                </a:cubicBezTo>
                <a:cubicBezTo>
                  <a:pt x="10929" y="5211"/>
                  <a:pt x="10933" y="5208"/>
                  <a:pt x="10914" y="5135"/>
                </a:cubicBezTo>
                <a:cubicBezTo>
                  <a:pt x="10819" y="5146"/>
                  <a:pt x="10732" y="5210"/>
                  <a:pt x="10666" y="5283"/>
                </a:cubicBezTo>
                <a:cubicBezTo>
                  <a:pt x="10622" y="5331"/>
                  <a:pt x="10604" y="5403"/>
                  <a:pt x="10567" y="5457"/>
                </a:cubicBezTo>
                <a:cubicBezTo>
                  <a:pt x="10537" y="5487"/>
                  <a:pt x="10526" y="5501"/>
                  <a:pt x="10517" y="55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Ink 6"/>
          <p:cNvSpPr/>
          <p:nvPr/>
        </p:nvSpPr>
        <p:spPr>
          <a:xfrm>
            <a:off x="1847880" y="2374920"/>
            <a:ext cx="135000" cy="81000"/>
          </a:xfrm>
          <a:custGeom>
            <a:avLst/>
            <a:gdLst/>
            <a:ahLst/>
            <a:rect l="l" t="t" r="r" b="b"/>
            <a:pathLst>
              <a:path w="373" h="224">
                <a:moveTo>
                  <a:pt x="5159" y="6598"/>
                </a:moveTo>
                <a:cubicBezTo>
                  <a:pt x="5235" y="6598"/>
                  <a:pt x="5271" y="6604"/>
                  <a:pt x="5333" y="6598"/>
                </a:cubicBezTo>
                <a:cubicBezTo>
                  <a:pt x="5389" y="6593"/>
                  <a:pt x="5450" y="6598"/>
                  <a:pt x="5507" y="6598"/>
                </a:cubicBezTo>
              </a:path>
              <a:path w="373" h="224">
                <a:moveTo>
                  <a:pt x="5135" y="6821"/>
                </a:moveTo>
                <a:cubicBezTo>
                  <a:pt x="5234" y="6821"/>
                  <a:pt x="5333" y="6821"/>
                  <a:pt x="5432" y="68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Ink 7"/>
          <p:cNvSpPr/>
          <p:nvPr/>
        </p:nvSpPr>
        <p:spPr>
          <a:xfrm>
            <a:off x="2374920" y="2259000"/>
            <a:ext cx="822240" cy="322200"/>
          </a:xfrm>
          <a:custGeom>
            <a:avLst/>
            <a:gdLst/>
            <a:ahLst/>
            <a:rect l="l" t="t" r="r" b="b"/>
            <a:pathLst>
              <a:path w="2283" h="894">
                <a:moveTo>
                  <a:pt x="6598" y="7119"/>
                </a:moveTo>
                <a:cubicBezTo>
                  <a:pt x="6627" y="7155"/>
                  <a:pt x="6696" y="7210"/>
                  <a:pt x="6722" y="7119"/>
                </a:cubicBezTo>
                <a:cubicBezTo>
                  <a:pt x="6722" y="7074"/>
                  <a:pt x="6726" y="7061"/>
                  <a:pt x="6697" y="7045"/>
                </a:cubicBezTo>
                <a:cubicBezTo>
                  <a:pt x="6653" y="7088"/>
                  <a:pt x="6656" y="7082"/>
                  <a:pt x="6648" y="7144"/>
                </a:cubicBezTo>
                <a:cubicBezTo>
                  <a:pt x="6682" y="7158"/>
                  <a:pt x="6754" y="7156"/>
                  <a:pt x="6772" y="7094"/>
                </a:cubicBezTo>
                <a:cubicBezTo>
                  <a:pt x="6798" y="7003"/>
                  <a:pt x="6704" y="7011"/>
                  <a:pt x="6672" y="7069"/>
                </a:cubicBezTo>
                <a:cubicBezTo>
                  <a:pt x="6672" y="7077"/>
                  <a:pt x="6672" y="7086"/>
                  <a:pt x="6672" y="7094"/>
                </a:cubicBezTo>
              </a:path>
              <a:path w="2283" h="894">
                <a:moveTo>
                  <a:pt x="7243" y="6325"/>
                </a:moveTo>
                <a:cubicBezTo>
                  <a:pt x="7243" y="6227"/>
                  <a:pt x="7216" y="6355"/>
                  <a:pt x="7193" y="6400"/>
                </a:cubicBezTo>
                <a:cubicBezTo>
                  <a:pt x="7136" y="6509"/>
                  <a:pt x="7129" y="6606"/>
                  <a:pt x="7094" y="6722"/>
                </a:cubicBezTo>
                <a:cubicBezTo>
                  <a:pt x="7064" y="6821"/>
                  <a:pt x="7079" y="6873"/>
                  <a:pt x="7094" y="6970"/>
                </a:cubicBezTo>
                <a:cubicBezTo>
                  <a:pt x="7107" y="7050"/>
                  <a:pt x="7121" y="7075"/>
                  <a:pt x="7193" y="7119"/>
                </a:cubicBezTo>
                <a:cubicBezTo>
                  <a:pt x="7254" y="7156"/>
                  <a:pt x="7308" y="7140"/>
                  <a:pt x="7367" y="7119"/>
                </a:cubicBezTo>
                <a:cubicBezTo>
                  <a:pt x="7416" y="7102"/>
                  <a:pt x="7478" y="7023"/>
                  <a:pt x="7491" y="6970"/>
                </a:cubicBezTo>
                <a:cubicBezTo>
                  <a:pt x="7506" y="6906"/>
                  <a:pt x="7532" y="6862"/>
                  <a:pt x="7491" y="6796"/>
                </a:cubicBezTo>
                <a:cubicBezTo>
                  <a:pt x="7456" y="6740"/>
                  <a:pt x="7415" y="6735"/>
                  <a:pt x="7367" y="6772"/>
                </a:cubicBezTo>
                <a:cubicBezTo>
                  <a:pt x="7313" y="6814"/>
                  <a:pt x="7296" y="6854"/>
                  <a:pt x="7293" y="6921"/>
                </a:cubicBezTo>
                <a:cubicBezTo>
                  <a:pt x="7289" y="7006"/>
                  <a:pt x="7284" y="7036"/>
                  <a:pt x="7342" y="7094"/>
                </a:cubicBezTo>
              </a:path>
              <a:path w="2283" h="894">
                <a:moveTo>
                  <a:pt x="8161" y="6573"/>
                </a:moveTo>
                <a:cubicBezTo>
                  <a:pt x="8161" y="6508"/>
                  <a:pt x="8179" y="6425"/>
                  <a:pt x="8136" y="6375"/>
                </a:cubicBezTo>
                <a:cubicBezTo>
                  <a:pt x="8086" y="6318"/>
                  <a:pt x="7989" y="6304"/>
                  <a:pt x="7913" y="6325"/>
                </a:cubicBezTo>
                <a:cubicBezTo>
                  <a:pt x="7867" y="6338"/>
                  <a:pt x="7777" y="6428"/>
                  <a:pt x="7764" y="6474"/>
                </a:cubicBezTo>
                <a:cubicBezTo>
                  <a:pt x="7750" y="6520"/>
                  <a:pt x="7751" y="6630"/>
                  <a:pt x="7813" y="6648"/>
                </a:cubicBezTo>
                <a:cubicBezTo>
                  <a:pt x="7878" y="6667"/>
                  <a:pt x="8002" y="6653"/>
                  <a:pt x="8062" y="6623"/>
                </a:cubicBezTo>
                <a:cubicBezTo>
                  <a:pt x="8099" y="6604"/>
                  <a:pt x="8162" y="6562"/>
                  <a:pt x="8186" y="6524"/>
                </a:cubicBezTo>
                <a:cubicBezTo>
                  <a:pt x="8249" y="6425"/>
                  <a:pt x="8164" y="6606"/>
                  <a:pt x="8161" y="6672"/>
                </a:cubicBezTo>
                <a:cubicBezTo>
                  <a:pt x="8156" y="6790"/>
                  <a:pt x="8182" y="6903"/>
                  <a:pt x="8186" y="7020"/>
                </a:cubicBezTo>
                <a:cubicBezTo>
                  <a:pt x="8189" y="7091"/>
                  <a:pt x="8191" y="7207"/>
                  <a:pt x="8210" y="7069"/>
                </a:cubicBezTo>
              </a:path>
              <a:path w="2283" h="894">
                <a:moveTo>
                  <a:pt x="8409" y="6424"/>
                </a:moveTo>
                <a:cubicBezTo>
                  <a:pt x="8477" y="6326"/>
                  <a:pt x="8509" y="6287"/>
                  <a:pt x="8632" y="6276"/>
                </a:cubicBezTo>
                <a:cubicBezTo>
                  <a:pt x="8723" y="6268"/>
                  <a:pt x="8727" y="6326"/>
                  <a:pt x="8731" y="6400"/>
                </a:cubicBezTo>
                <a:cubicBezTo>
                  <a:pt x="8735" y="6475"/>
                  <a:pt x="8726" y="6534"/>
                  <a:pt x="8682" y="6598"/>
                </a:cubicBezTo>
                <a:cubicBezTo>
                  <a:pt x="8643" y="6655"/>
                  <a:pt x="8509" y="6730"/>
                  <a:pt x="8558" y="6722"/>
                </a:cubicBezTo>
                <a:cubicBezTo>
                  <a:pt x="8624" y="6711"/>
                  <a:pt x="8732" y="6707"/>
                  <a:pt x="8781" y="6747"/>
                </a:cubicBezTo>
                <a:cubicBezTo>
                  <a:pt x="8844" y="6798"/>
                  <a:pt x="8876" y="6841"/>
                  <a:pt x="8880" y="6921"/>
                </a:cubicBezTo>
                <a:cubicBezTo>
                  <a:pt x="8883" y="6989"/>
                  <a:pt x="8866" y="7031"/>
                  <a:pt x="8806" y="7069"/>
                </a:cubicBezTo>
                <a:cubicBezTo>
                  <a:pt x="8742" y="7110"/>
                  <a:pt x="8604" y="7133"/>
                  <a:pt x="8533" y="7144"/>
                </a:cubicBezTo>
                <a:cubicBezTo>
                  <a:pt x="8491" y="7144"/>
                  <a:pt x="8483" y="7144"/>
                  <a:pt x="8458" y="71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Ink 8"/>
          <p:cNvSpPr/>
          <p:nvPr/>
        </p:nvSpPr>
        <p:spPr>
          <a:xfrm>
            <a:off x="3009960" y="2795760"/>
            <a:ext cx="677880" cy="428400"/>
          </a:xfrm>
          <a:custGeom>
            <a:avLst/>
            <a:gdLst/>
            <a:ahLst/>
            <a:rect l="l" t="t" r="r" b="b"/>
            <a:pathLst>
              <a:path w="1886" h="1191">
                <a:moveTo>
                  <a:pt x="8434" y="8781"/>
                </a:moveTo>
                <a:cubicBezTo>
                  <a:pt x="8403" y="8858"/>
                  <a:pt x="8367" y="8886"/>
                  <a:pt x="8409" y="8954"/>
                </a:cubicBezTo>
                <a:cubicBezTo>
                  <a:pt x="8454" y="8935"/>
                  <a:pt x="8552" y="8891"/>
                  <a:pt x="8458" y="8855"/>
                </a:cubicBezTo>
                <a:cubicBezTo>
                  <a:pt x="8416" y="8839"/>
                  <a:pt x="8389" y="8862"/>
                  <a:pt x="8359" y="8880"/>
                </a:cubicBezTo>
                <a:cubicBezTo>
                  <a:pt x="8404" y="8934"/>
                  <a:pt x="8474" y="8957"/>
                  <a:pt x="8508" y="8855"/>
                </a:cubicBezTo>
                <a:cubicBezTo>
                  <a:pt x="8508" y="8804"/>
                  <a:pt x="8507" y="8789"/>
                  <a:pt x="8483" y="8855"/>
                </a:cubicBezTo>
              </a:path>
              <a:path w="1886" h="1191">
                <a:moveTo>
                  <a:pt x="9401" y="8285"/>
                </a:moveTo>
                <a:cubicBezTo>
                  <a:pt x="9468" y="8149"/>
                  <a:pt x="9498" y="8105"/>
                  <a:pt x="9451" y="7962"/>
                </a:cubicBezTo>
                <a:cubicBezTo>
                  <a:pt x="9422" y="7874"/>
                  <a:pt x="9352" y="7781"/>
                  <a:pt x="9252" y="7764"/>
                </a:cubicBezTo>
                <a:cubicBezTo>
                  <a:pt x="9151" y="7746"/>
                  <a:pt x="9046" y="7775"/>
                  <a:pt x="8954" y="7813"/>
                </a:cubicBezTo>
                <a:cubicBezTo>
                  <a:pt x="8873" y="7846"/>
                  <a:pt x="8859" y="7911"/>
                  <a:pt x="8855" y="7987"/>
                </a:cubicBezTo>
                <a:cubicBezTo>
                  <a:pt x="8851" y="8060"/>
                  <a:pt x="8920" y="8126"/>
                  <a:pt x="8979" y="8161"/>
                </a:cubicBezTo>
                <a:cubicBezTo>
                  <a:pt x="9030" y="8191"/>
                  <a:pt x="9116" y="8249"/>
                  <a:pt x="9178" y="8235"/>
                </a:cubicBezTo>
                <a:cubicBezTo>
                  <a:pt x="9258" y="8217"/>
                  <a:pt x="9311" y="8178"/>
                  <a:pt x="9351" y="8111"/>
                </a:cubicBezTo>
                <a:cubicBezTo>
                  <a:pt x="9380" y="8055"/>
                  <a:pt x="9391" y="8031"/>
                  <a:pt x="9401" y="7987"/>
                </a:cubicBezTo>
                <a:cubicBezTo>
                  <a:pt x="9379" y="8088"/>
                  <a:pt x="9356" y="8183"/>
                  <a:pt x="9351" y="8285"/>
                </a:cubicBezTo>
                <a:cubicBezTo>
                  <a:pt x="9345" y="8407"/>
                  <a:pt x="9365" y="8512"/>
                  <a:pt x="9376" y="8632"/>
                </a:cubicBezTo>
                <a:cubicBezTo>
                  <a:pt x="9387" y="8751"/>
                  <a:pt x="9322" y="8932"/>
                  <a:pt x="9426" y="8880"/>
                </a:cubicBezTo>
              </a:path>
              <a:path w="1886" h="1191">
                <a:moveTo>
                  <a:pt x="9723" y="7863"/>
                </a:moveTo>
                <a:cubicBezTo>
                  <a:pt x="9804" y="7841"/>
                  <a:pt x="9863" y="7838"/>
                  <a:pt x="9947" y="7838"/>
                </a:cubicBezTo>
                <a:cubicBezTo>
                  <a:pt x="10047" y="7838"/>
                  <a:pt x="10110" y="7810"/>
                  <a:pt x="10195" y="7764"/>
                </a:cubicBezTo>
              </a:path>
              <a:path w="1886" h="1191">
                <a:moveTo>
                  <a:pt x="9674" y="7913"/>
                </a:moveTo>
                <a:cubicBezTo>
                  <a:pt x="9622" y="8011"/>
                  <a:pt x="9558" y="8080"/>
                  <a:pt x="9624" y="8186"/>
                </a:cubicBezTo>
                <a:cubicBezTo>
                  <a:pt x="9666" y="8253"/>
                  <a:pt x="9716" y="8238"/>
                  <a:pt x="9773" y="8210"/>
                </a:cubicBezTo>
                <a:cubicBezTo>
                  <a:pt x="9829" y="8182"/>
                  <a:pt x="9904" y="8135"/>
                  <a:pt x="9971" y="8161"/>
                </a:cubicBezTo>
                <a:cubicBezTo>
                  <a:pt x="10035" y="8186"/>
                  <a:pt x="10079" y="8239"/>
                  <a:pt x="10120" y="8285"/>
                </a:cubicBezTo>
                <a:cubicBezTo>
                  <a:pt x="10183" y="8356"/>
                  <a:pt x="10230" y="8460"/>
                  <a:pt x="10244" y="8558"/>
                </a:cubicBezTo>
                <a:cubicBezTo>
                  <a:pt x="10252" y="8610"/>
                  <a:pt x="10254" y="8739"/>
                  <a:pt x="10220" y="8781"/>
                </a:cubicBezTo>
                <a:cubicBezTo>
                  <a:pt x="10178" y="8833"/>
                  <a:pt x="10055" y="8806"/>
                  <a:pt x="9996" y="8806"/>
                </a:cubicBezTo>
                <a:cubicBezTo>
                  <a:pt x="9959" y="8806"/>
                  <a:pt x="9939" y="8787"/>
                  <a:pt x="9897" y="87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Ink 9"/>
          <p:cNvSpPr/>
          <p:nvPr/>
        </p:nvSpPr>
        <p:spPr>
          <a:xfrm>
            <a:off x="3929040" y="3562200"/>
            <a:ext cx="162000" cy="135000"/>
          </a:xfrm>
          <a:custGeom>
            <a:avLst/>
            <a:gdLst/>
            <a:ahLst/>
            <a:rect l="l" t="t" r="r" b="b"/>
            <a:pathLst>
              <a:path w="448" h="373">
                <a:moveTo>
                  <a:pt x="10939" y="9897"/>
                </a:moveTo>
                <a:cubicBezTo>
                  <a:pt x="11035" y="9923"/>
                  <a:pt x="11094" y="9962"/>
                  <a:pt x="11187" y="9971"/>
                </a:cubicBezTo>
                <a:cubicBezTo>
                  <a:pt x="11244" y="9976"/>
                  <a:pt x="11304" y="9971"/>
                  <a:pt x="11361" y="9971"/>
                </a:cubicBezTo>
              </a:path>
              <a:path w="448" h="373">
                <a:moveTo>
                  <a:pt x="10914" y="10071"/>
                </a:moveTo>
                <a:cubicBezTo>
                  <a:pt x="10975" y="10156"/>
                  <a:pt x="11016" y="10169"/>
                  <a:pt x="11112" y="10195"/>
                </a:cubicBezTo>
                <a:cubicBezTo>
                  <a:pt x="11211" y="10222"/>
                  <a:pt x="11231" y="10269"/>
                  <a:pt x="11336" y="10269"/>
                </a:cubicBezTo>
                <a:cubicBezTo>
                  <a:pt x="11344" y="10269"/>
                  <a:pt x="11353" y="10269"/>
                  <a:pt x="11361" y="102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Ink 10"/>
          <p:cNvSpPr/>
          <p:nvPr/>
        </p:nvSpPr>
        <p:spPr>
          <a:xfrm>
            <a:off x="2652840" y="3000240"/>
            <a:ext cx="106200" cy="81000"/>
          </a:xfrm>
          <a:custGeom>
            <a:avLst/>
            <a:gdLst/>
            <a:ahLst/>
            <a:rect l="l" t="t" r="r" b="b"/>
            <a:pathLst>
              <a:path w="299" h="225">
                <a:moveTo>
                  <a:pt x="7392" y="8334"/>
                </a:moveTo>
                <a:cubicBezTo>
                  <a:pt x="7483" y="8334"/>
                  <a:pt x="7574" y="8334"/>
                  <a:pt x="7665" y="8334"/>
                </a:cubicBezTo>
              </a:path>
              <a:path w="299" h="225">
                <a:moveTo>
                  <a:pt x="7367" y="8558"/>
                </a:moveTo>
                <a:cubicBezTo>
                  <a:pt x="7466" y="8558"/>
                  <a:pt x="7483" y="8558"/>
                  <a:pt x="7541" y="855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Ink 11"/>
          <p:cNvSpPr/>
          <p:nvPr/>
        </p:nvSpPr>
        <p:spPr>
          <a:xfrm>
            <a:off x="4224240" y="3384720"/>
            <a:ext cx="339840" cy="401400"/>
          </a:xfrm>
          <a:custGeom>
            <a:avLst/>
            <a:gdLst/>
            <a:ahLst/>
            <a:rect l="l" t="t" r="r" b="b"/>
            <a:pathLst>
              <a:path w="943" h="1117">
                <a:moveTo>
                  <a:pt x="11733" y="9500"/>
                </a:moveTo>
                <a:cubicBezTo>
                  <a:pt x="11763" y="9475"/>
                  <a:pt x="11848" y="9413"/>
                  <a:pt x="11881" y="9401"/>
                </a:cubicBezTo>
                <a:cubicBezTo>
                  <a:pt x="11954" y="9375"/>
                  <a:pt x="12051" y="9423"/>
                  <a:pt x="12105" y="9451"/>
                </a:cubicBezTo>
                <a:cubicBezTo>
                  <a:pt x="12169" y="9485"/>
                  <a:pt x="12197" y="9568"/>
                  <a:pt x="12229" y="9624"/>
                </a:cubicBezTo>
                <a:cubicBezTo>
                  <a:pt x="12281" y="9715"/>
                  <a:pt x="12278" y="9795"/>
                  <a:pt x="12278" y="9897"/>
                </a:cubicBezTo>
                <a:cubicBezTo>
                  <a:pt x="12278" y="10003"/>
                  <a:pt x="12238" y="10095"/>
                  <a:pt x="12204" y="10195"/>
                </a:cubicBezTo>
                <a:cubicBezTo>
                  <a:pt x="12166" y="10307"/>
                  <a:pt x="12071" y="10417"/>
                  <a:pt x="11981" y="10492"/>
                </a:cubicBezTo>
                <a:cubicBezTo>
                  <a:pt x="11947" y="10520"/>
                  <a:pt x="11861" y="10495"/>
                  <a:pt x="11832" y="10492"/>
                </a:cubicBezTo>
                <a:cubicBezTo>
                  <a:pt x="11758" y="10483"/>
                  <a:pt x="11720" y="10425"/>
                  <a:pt x="11733" y="10344"/>
                </a:cubicBezTo>
                <a:cubicBezTo>
                  <a:pt x="11746" y="10258"/>
                  <a:pt x="11774" y="10200"/>
                  <a:pt x="11857" y="10195"/>
                </a:cubicBezTo>
                <a:cubicBezTo>
                  <a:pt x="11917" y="10191"/>
                  <a:pt x="12032" y="10173"/>
                  <a:pt x="12080" y="10220"/>
                </a:cubicBezTo>
                <a:cubicBezTo>
                  <a:pt x="12111" y="10251"/>
                  <a:pt x="12197" y="10314"/>
                  <a:pt x="12204" y="10344"/>
                </a:cubicBezTo>
                <a:cubicBezTo>
                  <a:pt x="12204" y="10417"/>
                  <a:pt x="12203" y="10442"/>
                  <a:pt x="12254" y="10368"/>
                </a:cubicBezTo>
              </a:path>
              <a:path w="943" h="1117">
                <a:moveTo>
                  <a:pt x="12576" y="10195"/>
                </a:moveTo>
                <a:cubicBezTo>
                  <a:pt x="12492" y="10289"/>
                  <a:pt x="12500" y="10239"/>
                  <a:pt x="12477" y="10344"/>
                </a:cubicBezTo>
                <a:cubicBezTo>
                  <a:pt x="12513" y="10350"/>
                  <a:pt x="12623" y="10388"/>
                  <a:pt x="12650" y="10344"/>
                </a:cubicBezTo>
                <a:cubicBezTo>
                  <a:pt x="12672" y="10279"/>
                  <a:pt x="12680" y="10264"/>
                  <a:pt x="12675" y="10220"/>
                </a:cubicBezTo>
                <a:cubicBezTo>
                  <a:pt x="12640" y="10202"/>
                  <a:pt x="12511" y="10169"/>
                  <a:pt x="12526" y="10269"/>
                </a:cubicBezTo>
                <a:cubicBezTo>
                  <a:pt x="12534" y="10269"/>
                  <a:pt x="12543" y="10269"/>
                  <a:pt x="12551" y="102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Ink 12"/>
          <p:cNvSpPr/>
          <p:nvPr/>
        </p:nvSpPr>
        <p:spPr>
          <a:xfrm>
            <a:off x="4749840" y="3357720"/>
            <a:ext cx="795240" cy="420480"/>
          </a:xfrm>
          <a:custGeom>
            <a:avLst/>
            <a:gdLst/>
            <a:ahLst/>
            <a:rect l="l" t="t" r="r" b="b"/>
            <a:pathLst>
              <a:path w="2209" h="1166">
                <a:moveTo>
                  <a:pt x="13246" y="9475"/>
                </a:moveTo>
                <a:cubicBezTo>
                  <a:pt x="13238" y="9549"/>
                  <a:pt x="13232" y="9625"/>
                  <a:pt x="13221" y="9699"/>
                </a:cubicBezTo>
                <a:cubicBezTo>
                  <a:pt x="13204" y="9820"/>
                  <a:pt x="13196" y="9924"/>
                  <a:pt x="13196" y="10046"/>
                </a:cubicBezTo>
                <a:cubicBezTo>
                  <a:pt x="13196" y="10129"/>
                  <a:pt x="13221" y="10179"/>
                  <a:pt x="13221" y="10269"/>
                </a:cubicBezTo>
                <a:cubicBezTo>
                  <a:pt x="13221" y="10318"/>
                  <a:pt x="13223" y="10385"/>
                  <a:pt x="13246" y="10294"/>
                </a:cubicBezTo>
              </a:path>
              <a:path w="2209" h="1166">
                <a:moveTo>
                  <a:pt x="13618" y="9599"/>
                </a:moveTo>
                <a:cubicBezTo>
                  <a:pt x="13611" y="9700"/>
                  <a:pt x="13590" y="9799"/>
                  <a:pt x="13568" y="9897"/>
                </a:cubicBezTo>
                <a:cubicBezTo>
                  <a:pt x="13547" y="9990"/>
                  <a:pt x="13545" y="10036"/>
                  <a:pt x="13568" y="10120"/>
                </a:cubicBezTo>
                <a:cubicBezTo>
                  <a:pt x="13588" y="10192"/>
                  <a:pt x="13638" y="10236"/>
                  <a:pt x="13692" y="10294"/>
                </a:cubicBezTo>
                <a:cubicBezTo>
                  <a:pt x="13755" y="10361"/>
                  <a:pt x="13804" y="10344"/>
                  <a:pt x="13891" y="10344"/>
                </a:cubicBezTo>
                <a:cubicBezTo>
                  <a:pt x="13957" y="10344"/>
                  <a:pt x="13982" y="10264"/>
                  <a:pt x="14015" y="10220"/>
                </a:cubicBezTo>
                <a:cubicBezTo>
                  <a:pt x="14042" y="10183"/>
                  <a:pt x="14099" y="10096"/>
                  <a:pt x="14089" y="10046"/>
                </a:cubicBezTo>
                <a:cubicBezTo>
                  <a:pt x="14071" y="9958"/>
                  <a:pt x="14059" y="9897"/>
                  <a:pt x="14015" y="9823"/>
                </a:cubicBezTo>
                <a:cubicBezTo>
                  <a:pt x="13997" y="9792"/>
                  <a:pt x="13943" y="9711"/>
                  <a:pt x="13915" y="9699"/>
                </a:cubicBezTo>
                <a:cubicBezTo>
                  <a:pt x="13842" y="9668"/>
                  <a:pt x="13831" y="9704"/>
                  <a:pt x="13816" y="9748"/>
                </a:cubicBezTo>
              </a:path>
              <a:path w="2209" h="1166">
                <a:moveTo>
                  <a:pt x="14560" y="9699"/>
                </a:moveTo>
                <a:cubicBezTo>
                  <a:pt x="14574" y="9613"/>
                  <a:pt x="14592" y="9583"/>
                  <a:pt x="14511" y="9525"/>
                </a:cubicBezTo>
                <a:cubicBezTo>
                  <a:pt x="14427" y="9465"/>
                  <a:pt x="14351" y="9470"/>
                  <a:pt x="14263" y="9500"/>
                </a:cubicBezTo>
                <a:cubicBezTo>
                  <a:pt x="14232" y="9592"/>
                  <a:pt x="14282" y="9631"/>
                  <a:pt x="14337" y="9699"/>
                </a:cubicBezTo>
                <a:cubicBezTo>
                  <a:pt x="14444" y="9831"/>
                  <a:pt x="14528" y="9985"/>
                  <a:pt x="14585" y="10145"/>
                </a:cubicBezTo>
                <a:cubicBezTo>
                  <a:pt x="14620" y="10243"/>
                  <a:pt x="14635" y="10315"/>
                  <a:pt x="14635" y="10418"/>
                </a:cubicBezTo>
                <a:cubicBezTo>
                  <a:pt x="14550" y="10418"/>
                  <a:pt x="14531" y="10419"/>
                  <a:pt x="14486" y="10344"/>
                </a:cubicBezTo>
                <a:cubicBezTo>
                  <a:pt x="14437" y="10263"/>
                  <a:pt x="14423" y="10236"/>
                  <a:pt x="14436" y="10145"/>
                </a:cubicBezTo>
                <a:cubicBezTo>
                  <a:pt x="14445" y="10076"/>
                  <a:pt x="14493" y="10007"/>
                  <a:pt x="14511" y="9971"/>
                </a:cubicBezTo>
                <a:cubicBezTo>
                  <a:pt x="14542" y="9910"/>
                  <a:pt x="14580" y="9866"/>
                  <a:pt x="14610" y="9823"/>
                </a:cubicBezTo>
                <a:cubicBezTo>
                  <a:pt x="14655" y="9758"/>
                  <a:pt x="14693" y="9699"/>
                  <a:pt x="14709" y="9624"/>
                </a:cubicBezTo>
              </a:path>
              <a:path w="2209" h="1166">
                <a:moveTo>
                  <a:pt x="15032" y="9327"/>
                </a:moveTo>
                <a:cubicBezTo>
                  <a:pt x="15022" y="9393"/>
                  <a:pt x="14989" y="9436"/>
                  <a:pt x="14957" y="9500"/>
                </a:cubicBezTo>
                <a:cubicBezTo>
                  <a:pt x="14903" y="9609"/>
                  <a:pt x="14872" y="9702"/>
                  <a:pt x="14858" y="9823"/>
                </a:cubicBezTo>
                <a:cubicBezTo>
                  <a:pt x="14846" y="9921"/>
                  <a:pt x="14863" y="9990"/>
                  <a:pt x="14908" y="10071"/>
                </a:cubicBezTo>
                <a:cubicBezTo>
                  <a:pt x="14952" y="10150"/>
                  <a:pt x="14975" y="10229"/>
                  <a:pt x="15056" y="10269"/>
                </a:cubicBezTo>
                <a:cubicBezTo>
                  <a:pt x="15134" y="10308"/>
                  <a:pt x="15274" y="10266"/>
                  <a:pt x="15329" y="10220"/>
                </a:cubicBezTo>
                <a:cubicBezTo>
                  <a:pt x="15365" y="10189"/>
                  <a:pt x="15406" y="10093"/>
                  <a:pt x="15404" y="10046"/>
                </a:cubicBezTo>
                <a:cubicBezTo>
                  <a:pt x="15401" y="9957"/>
                  <a:pt x="15379" y="9917"/>
                  <a:pt x="15304" y="9897"/>
                </a:cubicBezTo>
                <a:cubicBezTo>
                  <a:pt x="15236" y="9879"/>
                  <a:pt x="15166" y="9907"/>
                  <a:pt x="15131" y="9971"/>
                </a:cubicBezTo>
                <a:cubicBezTo>
                  <a:pt x="15079" y="10066"/>
                  <a:pt x="15122" y="10168"/>
                  <a:pt x="15131" y="10269"/>
                </a:cubicBezTo>
                <a:cubicBezTo>
                  <a:pt x="15131" y="10369"/>
                  <a:pt x="15135" y="10419"/>
                  <a:pt x="15156" y="1049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Assignment:</a:t>
            </a:r>
            <a:br>
              <a:rPr sz="7500"/>
            </a:b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Page 236</a:t>
            </a:r>
            <a:br>
              <a:rPr sz="7500"/>
            </a:b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#1-41</a:t>
            </a: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Lesson 3.2</a:t>
            </a: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=1000(0.5)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t/3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people be able to live in the area surrounding Chernobyl in 2050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will the area surrounding Chernobyl be considered safe for human habit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Ink 4"/>
          <p:cNvSpPr/>
          <p:nvPr/>
        </p:nvSpPr>
        <p:spPr>
          <a:xfrm>
            <a:off x="5769000" y="500040"/>
            <a:ext cx="81000" cy="420840"/>
          </a:xfrm>
          <a:custGeom>
            <a:avLst/>
            <a:gdLst/>
            <a:ahLst/>
            <a:rect l="l" t="t" r="r" b="b"/>
            <a:pathLst>
              <a:path w="224" h="1167">
                <a:moveTo>
                  <a:pt x="16247" y="1389"/>
                </a:moveTo>
                <a:cubicBezTo>
                  <a:pt x="16209" y="1436"/>
                  <a:pt x="16184" y="1490"/>
                  <a:pt x="16148" y="1538"/>
                </a:cubicBezTo>
                <a:cubicBezTo>
                  <a:pt x="16110" y="1589"/>
                  <a:pt x="16118" y="1652"/>
                  <a:pt x="16098" y="1712"/>
                </a:cubicBezTo>
                <a:cubicBezTo>
                  <a:pt x="16068" y="1802"/>
                  <a:pt x="16035" y="1889"/>
                  <a:pt x="16024" y="1984"/>
                </a:cubicBezTo>
                <a:cubicBezTo>
                  <a:pt x="16010" y="2111"/>
                  <a:pt x="15985" y="2366"/>
                  <a:pt x="16049" y="2480"/>
                </a:cubicBezTo>
                <a:cubicBezTo>
                  <a:pt x="16103" y="2577"/>
                  <a:pt x="16126" y="2555"/>
                  <a:pt x="16222" y="25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Ink 5"/>
          <p:cNvSpPr/>
          <p:nvPr/>
        </p:nvSpPr>
        <p:spPr>
          <a:xfrm>
            <a:off x="6411960" y="446040"/>
            <a:ext cx="106200" cy="482760"/>
          </a:xfrm>
          <a:custGeom>
            <a:avLst/>
            <a:gdLst/>
            <a:ahLst/>
            <a:rect l="l" t="t" r="r" b="b"/>
            <a:pathLst>
              <a:path w="298" h="1341">
                <a:moveTo>
                  <a:pt x="17810" y="1240"/>
                </a:moveTo>
                <a:cubicBezTo>
                  <a:pt x="17881" y="1322"/>
                  <a:pt x="17939" y="1414"/>
                  <a:pt x="17983" y="1513"/>
                </a:cubicBezTo>
                <a:cubicBezTo>
                  <a:pt x="18034" y="1628"/>
                  <a:pt x="18053" y="1764"/>
                  <a:pt x="18083" y="1885"/>
                </a:cubicBezTo>
                <a:cubicBezTo>
                  <a:pt x="18106" y="1979"/>
                  <a:pt x="18128" y="2111"/>
                  <a:pt x="18107" y="2208"/>
                </a:cubicBezTo>
                <a:cubicBezTo>
                  <a:pt x="18091" y="2279"/>
                  <a:pt x="18086" y="2350"/>
                  <a:pt x="18033" y="2406"/>
                </a:cubicBezTo>
                <a:cubicBezTo>
                  <a:pt x="17974" y="2468"/>
                  <a:pt x="17918" y="2500"/>
                  <a:pt x="17859" y="2555"/>
                </a:cubicBezTo>
                <a:cubicBezTo>
                  <a:pt x="17835" y="2580"/>
                  <a:pt x="17827" y="2588"/>
                  <a:pt x="17810" y="25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ogarithmic For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Arial"/>
              </a:rPr>
              <a:t>y = Log</a:t>
            </a:r>
            <a:r>
              <a:rPr b="0" lang="en-US" sz="83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83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8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xponential For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Arial"/>
              </a:rPr>
              <a:t>x = a</a:t>
            </a:r>
            <a:r>
              <a:rPr b="0" lang="en-US" sz="8300" spc="-1" strike="noStrike" baseline="30000">
                <a:solidFill>
                  <a:srgbClr val="ffffff"/>
                </a:solidFill>
                <a:latin typeface="Arial"/>
              </a:rPr>
              <a:t>y</a:t>
            </a:r>
            <a:endParaRPr b="0" lang="en-US" sz="8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atural Log For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29528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83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8300" spc="-1" strike="noStrike">
                <a:solidFill>
                  <a:srgbClr val="ffffff"/>
                </a:solidFill>
                <a:latin typeface="Arial"/>
              </a:rPr>
              <a:t>x = ln x   </a:t>
            </a: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(for x &gt; 0)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ffffff"/>
                </a:solidFill>
                <a:latin typeface="Arial"/>
              </a:rPr>
              <a:t>Note that the natural log and the number e “cancel” each other out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rite the logarithm in exponential form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1 =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2 =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Ink 4"/>
          <p:cNvSpPr/>
          <p:nvPr/>
        </p:nvSpPr>
        <p:spPr>
          <a:xfrm>
            <a:off x="1500120" y="1866960"/>
            <a:ext cx="1268640" cy="347760"/>
          </a:xfrm>
          <a:custGeom>
            <a:avLst/>
            <a:gdLst/>
            <a:ahLst/>
            <a:rect l="l" t="t" r="r" b="b"/>
            <a:pathLst>
              <a:path w="3523" h="969">
                <a:moveTo>
                  <a:pt x="4887" y="5507"/>
                </a:moveTo>
                <a:cubicBezTo>
                  <a:pt x="4929" y="5421"/>
                  <a:pt x="4967" y="5352"/>
                  <a:pt x="4911" y="5259"/>
                </a:cubicBezTo>
                <a:cubicBezTo>
                  <a:pt x="4874" y="5198"/>
                  <a:pt x="4775" y="5187"/>
                  <a:pt x="4713" y="5184"/>
                </a:cubicBezTo>
                <a:cubicBezTo>
                  <a:pt x="4608" y="5180"/>
                  <a:pt x="4516" y="5213"/>
                  <a:pt x="4440" y="5283"/>
                </a:cubicBezTo>
                <a:cubicBezTo>
                  <a:pt x="4327" y="5387"/>
                  <a:pt x="4252" y="5488"/>
                  <a:pt x="4192" y="5631"/>
                </a:cubicBezTo>
                <a:cubicBezTo>
                  <a:pt x="4159" y="5709"/>
                  <a:pt x="4148" y="5844"/>
                  <a:pt x="4167" y="5928"/>
                </a:cubicBezTo>
                <a:cubicBezTo>
                  <a:pt x="4183" y="5999"/>
                  <a:pt x="4302" y="6042"/>
                  <a:pt x="4366" y="6052"/>
                </a:cubicBezTo>
                <a:cubicBezTo>
                  <a:pt x="4460" y="6066"/>
                  <a:pt x="4604" y="6048"/>
                  <a:pt x="4688" y="6003"/>
                </a:cubicBezTo>
                <a:cubicBezTo>
                  <a:pt x="4815" y="5936"/>
                  <a:pt x="4935" y="5863"/>
                  <a:pt x="4986" y="5730"/>
                </a:cubicBezTo>
                <a:cubicBezTo>
                  <a:pt x="5022" y="5638"/>
                  <a:pt x="5016" y="5572"/>
                  <a:pt x="4986" y="5482"/>
                </a:cubicBezTo>
                <a:cubicBezTo>
                  <a:pt x="4966" y="5423"/>
                  <a:pt x="4933" y="5307"/>
                  <a:pt x="4862" y="5283"/>
                </a:cubicBezTo>
                <a:cubicBezTo>
                  <a:pt x="4804" y="5283"/>
                  <a:pt x="4779" y="5283"/>
                  <a:pt x="4738" y="5283"/>
                </a:cubicBezTo>
              </a:path>
              <a:path w="3523" h="969">
                <a:moveTo>
                  <a:pt x="4936" y="5879"/>
                </a:moveTo>
                <a:cubicBezTo>
                  <a:pt x="4947" y="5996"/>
                  <a:pt x="4979" y="6057"/>
                  <a:pt x="5110" y="6077"/>
                </a:cubicBezTo>
                <a:cubicBezTo>
                  <a:pt x="5233" y="6096"/>
                  <a:pt x="5359" y="6108"/>
                  <a:pt x="5482" y="6127"/>
                </a:cubicBezTo>
                <a:cubicBezTo>
                  <a:pt x="5655" y="6154"/>
                  <a:pt x="5803" y="6130"/>
                  <a:pt x="5978" y="6127"/>
                </a:cubicBezTo>
                <a:cubicBezTo>
                  <a:pt x="6169" y="6123"/>
                  <a:pt x="6359" y="6105"/>
                  <a:pt x="6548" y="6077"/>
                </a:cubicBezTo>
                <a:cubicBezTo>
                  <a:pt x="6715" y="6052"/>
                  <a:pt x="6846" y="6018"/>
                  <a:pt x="6995" y="5953"/>
                </a:cubicBezTo>
                <a:cubicBezTo>
                  <a:pt x="7085" y="5914"/>
                  <a:pt x="7153" y="5881"/>
                  <a:pt x="7218" y="5804"/>
                </a:cubicBezTo>
                <a:cubicBezTo>
                  <a:pt x="7257" y="5758"/>
                  <a:pt x="7261" y="5739"/>
                  <a:pt x="7268" y="5680"/>
                </a:cubicBezTo>
                <a:cubicBezTo>
                  <a:pt x="7220" y="5736"/>
                  <a:pt x="7216" y="5759"/>
                  <a:pt x="7144" y="5779"/>
                </a:cubicBezTo>
                <a:cubicBezTo>
                  <a:pt x="7064" y="5802"/>
                  <a:pt x="6930" y="5793"/>
                  <a:pt x="6846" y="5804"/>
                </a:cubicBezTo>
                <a:cubicBezTo>
                  <a:pt x="6770" y="5814"/>
                  <a:pt x="6700" y="5824"/>
                  <a:pt x="6623" y="5829"/>
                </a:cubicBezTo>
                <a:cubicBezTo>
                  <a:pt x="6693" y="5788"/>
                  <a:pt x="6761" y="5745"/>
                  <a:pt x="6846" y="5730"/>
                </a:cubicBezTo>
                <a:cubicBezTo>
                  <a:pt x="6954" y="5711"/>
                  <a:pt x="7058" y="5659"/>
                  <a:pt x="7169" y="5631"/>
                </a:cubicBezTo>
                <a:cubicBezTo>
                  <a:pt x="7248" y="5611"/>
                  <a:pt x="7382" y="5548"/>
                  <a:pt x="7466" y="5581"/>
                </a:cubicBezTo>
                <a:cubicBezTo>
                  <a:pt x="7507" y="5597"/>
                  <a:pt x="7594" y="5769"/>
                  <a:pt x="7615" y="5804"/>
                </a:cubicBezTo>
                <a:cubicBezTo>
                  <a:pt x="7642" y="5858"/>
                  <a:pt x="7654" y="5878"/>
                  <a:pt x="7689" y="59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Ink 5"/>
          <p:cNvSpPr/>
          <p:nvPr/>
        </p:nvSpPr>
        <p:spPr>
          <a:xfrm>
            <a:off x="3616200" y="1419120"/>
            <a:ext cx="1036800" cy="482760"/>
          </a:xfrm>
          <a:custGeom>
            <a:avLst/>
            <a:gdLst/>
            <a:ahLst/>
            <a:rect l="l" t="t" r="r" b="b"/>
            <a:pathLst>
              <a:path w="2878" h="1340">
                <a:moveTo>
                  <a:pt x="10666" y="4415"/>
                </a:moveTo>
                <a:cubicBezTo>
                  <a:pt x="10599" y="4349"/>
                  <a:pt x="10600" y="4374"/>
                  <a:pt x="10517" y="4341"/>
                </a:cubicBezTo>
                <a:cubicBezTo>
                  <a:pt x="10469" y="4322"/>
                  <a:pt x="10406" y="4299"/>
                  <a:pt x="10344" y="4316"/>
                </a:cubicBezTo>
                <a:cubicBezTo>
                  <a:pt x="10255" y="4341"/>
                  <a:pt x="10156" y="4343"/>
                  <a:pt x="10071" y="4390"/>
                </a:cubicBezTo>
                <a:cubicBezTo>
                  <a:pt x="10063" y="4398"/>
                  <a:pt x="10054" y="4407"/>
                  <a:pt x="10046" y="4415"/>
                </a:cubicBezTo>
                <a:cubicBezTo>
                  <a:pt x="10055" y="4475"/>
                  <a:pt x="10096" y="4547"/>
                  <a:pt x="10145" y="4589"/>
                </a:cubicBezTo>
                <a:cubicBezTo>
                  <a:pt x="10211" y="4646"/>
                  <a:pt x="10297" y="4707"/>
                  <a:pt x="10368" y="4762"/>
                </a:cubicBezTo>
                <a:cubicBezTo>
                  <a:pt x="10445" y="4822"/>
                  <a:pt x="10518" y="4911"/>
                  <a:pt x="10542" y="5011"/>
                </a:cubicBezTo>
                <a:cubicBezTo>
                  <a:pt x="10561" y="5090"/>
                  <a:pt x="10568" y="5136"/>
                  <a:pt x="10517" y="5209"/>
                </a:cubicBezTo>
                <a:cubicBezTo>
                  <a:pt x="10484" y="5257"/>
                  <a:pt x="10419" y="5280"/>
                  <a:pt x="10368" y="5283"/>
                </a:cubicBezTo>
                <a:cubicBezTo>
                  <a:pt x="10295" y="5287"/>
                  <a:pt x="10250" y="5284"/>
                  <a:pt x="10195" y="5234"/>
                </a:cubicBezTo>
                <a:cubicBezTo>
                  <a:pt x="10126" y="5172"/>
                  <a:pt x="10157" y="5165"/>
                  <a:pt x="10170" y="5085"/>
                </a:cubicBezTo>
                <a:cubicBezTo>
                  <a:pt x="10186" y="4992"/>
                  <a:pt x="10218" y="4964"/>
                  <a:pt x="10269" y="4887"/>
                </a:cubicBezTo>
                <a:cubicBezTo>
                  <a:pt x="10351" y="4764"/>
                  <a:pt x="10406" y="4634"/>
                  <a:pt x="10492" y="4514"/>
                </a:cubicBezTo>
                <a:cubicBezTo>
                  <a:pt x="10517" y="4465"/>
                  <a:pt x="10526" y="4448"/>
                  <a:pt x="10567" y="4440"/>
                </a:cubicBezTo>
              </a:path>
              <a:path w="2878" h="1340">
                <a:moveTo>
                  <a:pt x="10988" y="4266"/>
                </a:moveTo>
                <a:cubicBezTo>
                  <a:pt x="10988" y="4355"/>
                  <a:pt x="10974" y="4429"/>
                  <a:pt x="10964" y="4514"/>
                </a:cubicBezTo>
                <a:cubicBezTo>
                  <a:pt x="10952" y="4625"/>
                  <a:pt x="10979" y="4731"/>
                  <a:pt x="10988" y="4837"/>
                </a:cubicBezTo>
                <a:cubicBezTo>
                  <a:pt x="10996" y="4929"/>
                  <a:pt x="10985" y="5022"/>
                  <a:pt x="11013" y="5110"/>
                </a:cubicBezTo>
                <a:cubicBezTo>
                  <a:pt x="11029" y="5159"/>
                  <a:pt x="11042" y="5290"/>
                  <a:pt x="11063" y="5184"/>
                </a:cubicBezTo>
              </a:path>
              <a:path w="2878" h="1340">
                <a:moveTo>
                  <a:pt x="11286" y="4713"/>
                </a:moveTo>
                <a:cubicBezTo>
                  <a:pt x="11370" y="4705"/>
                  <a:pt x="11418" y="4688"/>
                  <a:pt x="11509" y="4688"/>
                </a:cubicBezTo>
                <a:cubicBezTo>
                  <a:pt x="11592" y="4688"/>
                  <a:pt x="11674" y="4688"/>
                  <a:pt x="11757" y="4688"/>
                </a:cubicBezTo>
              </a:path>
              <a:path w="2878" h="1340">
                <a:moveTo>
                  <a:pt x="11311" y="4911"/>
                </a:moveTo>
                <a:cubicBezTo>
                  <a:pt x="11427" y="4911"/>
                  <a:pt x="11542" y="4911"/>
                  <a:pt x="11658" y="4911"/>
                </a:cubicBezTo>
              </a:path>
              <a:path w="2878" h="1340">
                <a:moveTo>
                  <a:pt x="12005" y="4465"/>
                </a:moveTo>
                <a:cubicBezTo>
                  <a:pt x="12055" y="4435"/>
                  <a:pt x="12080" y="4392"/>
                  <a:pt x="12129" y="4366"/>
                </a:cubicBezTo>
                <a:cubicBezTo>
                  <a:pt x="12197" y="4330"/>
                  <a:pt x="12300" y="4295"/>
                  <a:pt x="12378" y="4316"/>
                </a:cubicBezTo>
                <a:cubicBezTo>
                  <a:pt x="12456" y="4337"/>
                  <a:pt x="12486" y="4424"/>
                  <a:pt x="12427" y="4490"/>
                </a:cubicBezTo>
                <a:cubicBezTo>
                  <a:pt x="12366" y="4558"/>
                  <a:pt x="12273" y="4606"/>
                  <a:pt x="12204" y="4663"/>
                </a:cubicBezTo>
                <a:cubicBezTo>
                  <a:pt x="12154" y="4704"/>
                  <a:pt x="12010" y="4834"/>
                  <a:pt x="12055" y="4787"/>
                </a:cubicBezTo>
                <a:cubicBezTo>
                  <a:pt x="12108" y="4732"/>
                  <a:pt x="12180" y="4716"/>
                  <a:pt x="12254" y="4713"/>
                </a:cubicBezTo>
                <a:cubicBezTo>
                  <a:pt x="12325" y="4710"/>
                  <a:pt x="12384" y="4732"/>
                  <a:pt x="12402" y="4812"/>
                </a:cubicBezTo>
                <a:cubicBezTo>
                  <a:pt x="12418" y="4882"/>
                  <a:pt x="12395" y="4979"/>
                  <a:pt x="12353" y="5035"/>
                </a:cubicBezTo>
                <a:cubicBezTo>
                  <a:pt x="12313" y="5089"/>
                  <a:pt x="12262" y="5171"/>
                  <a:pt x="12204" y="5209"/>
                </a:cubicBezTo>
                <a:cubicBezTo>
                  <a:pt x="12136" y="5254"/>
                  <a:pt x="12083" y="5259"/>
                  <a:pt x="12005" y="5259"/>
                </a:cubicBezTo>
                <a:cubicBezTo>
                  <a:pt x="11974" y="5259"/>
                  <a:pt x="11814" y="5230"/>
                  <a:pt x="11807" y="5184"/>
                </a:cubicBezTo>
                <a:cubicBezTo>
                  <a:pt x="11829" y="5141"/>
                  <a:pt x="11833" y="5129"/>
                  <a:pt x="11857" y="5110"/>
                </a:cubicBezTo>
              </a:path>
              <a:path w="2878" h="1340">
                <a:moveTo>
                  <a:pt x="12700" y="4018"/>
                </a:moveTo>
                <a:cubicBezTo>
                  <a:pt x="12720" y="4068"/>
                  <a:pt x="12685" y="4133"/>
                  <a:pt x="12650" y="4192"/>
                </a:cubicBezTo>
                <a:cubicBezTo>
                  <a:pt x="12642" y="4200"/>
                  <a:pt x="12634" y="4209"/>
                  <a:pt x="12626" y="4217"/>
                </a:cubicBezTo>
                <a:cubicBezTo>
                  <a:pt x="12685" y="4253"/>
                  <a:pt x="12750" y="4242"/>
                  <a:pt x="12824" y="4242"/>
                </a:cubicBezTo>
                <a:cubicBezTo>
                  <a:pt x="12897" y="4242"/>
                  <a:pt x="12889" y="4228"/>
                  <a:pt x="12923" y="4167"/>
                </a:cubicBezTo>
              </a:path>
              <a:path w="2878" h="1340">
                <a:moveTo>
                  <a:pt x="12874" y="3944"/>
                </a:moveTo>
                <a:cubicBezTo>
                  <a:pt x="12874" y="4035"/>
                  <a:pt x="12869" y="4130"/>
                  <a:pt x="12849" y="4217"/>
                </a:cubicBezTo>
                <a:cubicBezTo>
                  <a:pt x="12827" y="4317"/>
                  <a:pt x="12783" y="4385"/>
                  <a:pt x="12774" y="44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Ink 6"/>
          <p:cNvSpPr/>
          <p:nvPr/>
        </p:nvSpPr>
        <p:spPr>
          <a:xfrm>
            <a:off x="1509840" y="2419200"/>
            <a:ext cx="1339560" cy="366840"/>
          </a:xfrm>
          <a:custGeom>
            <a:avLst/>
            <a:gdLst/>
            <a:ahLst/>
            <a:rect l="l" t="t" r="r" b="b"/>
            <a:pathLst>
              <a:path w="3722" h="1018">
                <a:moveTo>
                  <a:pt x="4787" y="6921"/>
                </a:moveTo>
                <a:cubicBezTo>
                  <a:pt x="4778" y="6843"/>
                  <a:pt x="4768" y="6802"/>
                  <a:pt x="4713" y="6747"/>
                </a:cubicBezTo>
                <a:cubicBezTo>
                  <a:pt x="4679" y="6713"/>
                  <a:pt x="4588" y="6708"/>
                  <a:pt x="4539" y="6722"/>
                </a:cubicBezTo>
                <a:cubicBezTo>
                  <a:pt x="4444" y="6749"/>
                  <a:pt x="4383" y="6830"/>
                  <a:pt x="4316" y="6896"/>
                </a:cubicBezTo>
                <a:cubicBezTo>
                  <a:pt x="4234" y="6977"/>
                  <a:pt x="4178" y="7126"/>
                  <a:pt x="4192" y="7243"/>
                </a:cubicBezTo>
                <a:cubicBezTo>
                  <a:pt x="4199" y="7302"/>
                  <a:pt x="4271" y="7406"/>
                  <a:pt x="4316" y="7441"/>
                </a:cubicBezTo>
                <a:cubicBezTo>
                  <a:pt x="4386" y="7494"/>
                  <a:pt x="4477" y="7531"/>
                  <a:pt x="4564" y="7541"/>
                </a:cubicBezTo>
                <a:cubicBezTo>
                  <a:pt x="4658" y="7552"/>
                  <a:pt x="4732" y="7540"/>
                  <a:pt x="4812" y="7491"/>
                </a:cubicBezTo>
                <a:cubicBezTo>
                  <a:pt x="4897" y="7439"/>
                  <a:pt x="4967" y="7334"/>
                  <a:pt x="5011" y="7243"/>
                </a:cubicBezTo>
                <a:cubicBezTo>
                  <a:pt x="5055" y="7152"/>
                  <a:pt x="5081" y="7066"/>
                  <a:pt x="5035" y="6970"/>
                </a:cubicBezTo>
                <a:cubicBezTo>
                  <a:pt x="5033" y="6965"/>
                  <a:pt x="4939" y="6818"/>
                  <a:pt x="4911" y="6821"/>
                </a:cubicBezTo>
                <a:cubicBezTo>
                  <a:pt x="4887" y="6846"/>
                  <a:pt x="4879" y="6855"/>
                  <a:pt x="4862" y="6871"/>
                </a:cubicBezTo>
              </a:path>
              <a:path w="3722" h="1018">
                <a:moveTo>
                  <a:pt x="5060" y="7293"/>
                </a:moveTo>
                <a:cubicBezTo>
                  <a:pt x="5113" y="7387"/>
                  <a:pt x="5146" y="7431"/>
                  <a:pt x="5234" y="7491"/>
                </a:cubicBezTo>
                <a:cubicBezTo>
                  <a:pt x="5328" y="7555"/>
                  <a:pt x="5447" y="7613"/>
                  <a:pt x="5556" y="7640"/>
                </a:cubicBezTo>
                <a:cubicBezTo>
                  <a:pt x="5775" y="7695"/>
                  <a:pt x="6001" y="7734"/>
                  <a:pt x="6226" y="7739"/>
                </a:cubicBezTo>
                <a:cubicBezTo>
                  <a:pt x="6497" y="7745"/>
                  <a:pt x="6793" y="7723"/>
                  <a:pt x="7045" y="7615"/>
                </a:cubicBezTo>
                <a:cubicBezTo>
                  <a:pt x="7183" y="7556"/>
                  <a:pt x="7282" y="7523"/>
                  <a:pt x="7392" y="7417"/>
                </a:cubicBezTo>
                <a:cubicBezTo>
                  <a:pt x="7438" y="7373"/>
                  <a:pt x="7534" y="7318"/>
                  <a:pt x="7565" y="7268"/>
                </a:cubicBezTo>
                <a:cubicBezTo>
                  <a:pt x="7615" y="7185"/>
                  <a:pt x="7534" y="7240"/>
                  <a:pt x="7516" y="7243"/>
                </a:cubicBezTo>
              </a:path>
              <a:path w="3722" h="1018">
                <a:moveTo>
                  <a:pt x="7268" y="7268"/>
                </a:moveTo>
                <a:cubicBezTo>
                  <a:pt x="7227" y="7284"/>
                  <a:pt x="7185" y="7301"/>
                  <a:pt x="7144" y="7317"/>
                </a:cubicBezTo>
                <a:cubicBezTo>
                  <a:pt x="7191" y="7280"/>
                  <a:pt x="7279" y="7254"/>
                  <a:pt x="7317" y="7218"/>
                </a:cubicBezTo>
                <a:cubicBezTo>
                  <a:pt x="7360" y="7178"/>
                  <a:pt x="7368" y="7086"/>
                  <a:pt x="7441" y="7144"/>
                </a:cubicBezTo>
                <a:cubicBezTo>
                  <a:pt x="7503" y="7194"/>
                  <a:pt x="7538" y="7237"/>
                  <a:pt x="7615" y="7268"/>
                </a:cubicBezTo>
                <a:cubicBezTo>
                  <a:pt x="7695" y="7300"/>
                  <a:pt x="7790" y="7320"/>
                  <a:pt x="7863" y="7367"/>
                </a:cubicBezTo>
                <a:cubicBezTo>
                  <a:pt x="7886" y="7390"/>
                  <a:pt x="7890" y="7398"/>
                  <a:pt x="7913" y="739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Ink 7"/>
          <p:cNvSpPr/>
          <p:nvPr/>
        </p:nvSpPr>
        <p:spPr>
          <a:xfrm>
            <a:off x="3375000" y="2009880"/>
            <a:ext cx="1974960" cy="606240"/>
          </a:xfrm>
          <a:custGeom>
            <a:avLst/>
            <a:gdLst/>
            <a:ahLst/>
            <a:rect l="l" t="t" r="r" b="b"/>
            <a:pathLst>
              <a:path w="5483" h="1688">
                <a:moveTo>
                  <a:pt x="9426" y="6176"/>
                </a:moveTo>
                <a:cubicBezTo>
                  <a:pt x="9489" y="6135"/>
                  <a:pt x="9554" y="6126"/>
                  <a:pt x="9624" y="6102"/>
                </a:cubicBezTo>
                <a:cubicBezTo>
                  <a:pt x="9739" y="6062"/>
                  <a:pt x="9810" y="6089"/>
                  <a:pt x="9922" y="6102"/>
                </a:cubicBezTo>
                <a:cubicBezTo>
                  <a:pt x="10017" y="6113"/>
                  <a:pt x="10113" y="6112"/>
                  <a:pt x="10145" y="6226"/>
                </a:cubicBezTo>
                <a:cubicBezTo>
                  <a:pt x="10162" y="6287"/>
                  <a:pt x="10086" y="6411"/>
                  <a:pt x="10046" y="6449"/>
                </a:cubicBezTo>
                <a:cubicBezTo>
                  <a:pt x="9969" y="6522"/>
                  <a:pt x="9868" y="6557"/>
                  <a:pt x="9773" y="6598"/>
                </a:cubicBezTo>
                <a:cubicBezTo>
                  <a:pt x="9732" y="6616"/>
                  <a:pt x="9494" y="6686"/>
                  <a:pt x="9624" y="6648"/>
                </a:cubicBezTo>
                <a:cubicBezTo>
                  <a:pt x="9703" y="6625"/>
                  <a:pt x="9813" y="6605"/>
                  <a:pt x="9897" y="6623"/>
                </a:cubicBezTo>
                <a:cubicBezTo>
                  <a:pt x="10018" y="6648"/>
                  <a:pt x="10081" y="6692"/>
                  <a:pt x="10145" y="6796"/>
                </a:cubicBezTo>
                <a:cubicBezTo>
                  <a:pt x="10203" y="6889"/>
                  <a:pt x="10205" y="7000"/>
                  <a:pt x="10145" y="7094"/>
                </a:cubicBezTo>
                <a:cubicBezTo>
                  <a:pt x="10087" y="7187"/>
                  <a:pt x="9967" y="7211"/>
                  <a:pt x="9872" y="7243"/>
                </a:cubicBezTo>
                <a:cubicBezTo>
                  <a:pt x="9758" y="7281"/>
                  <a:pt x="9666" y="7270"/>
                  <a:pt x="9550" y="7243"/>
                </a:cubicBezTo>
                <a:cubicBezTo>
                  <a:pt x="9467" y="7224"/>
                  <a:pt x="9351" y="7182"/>
                  <a:pt x="9376" y="7069"/>
                </a:cubicBezTo>
                <a:cubicBezTo>
                  <a:pt x="9403" y="7015"/>
                  <a:pt x="9415" y="6995"/>
                  <a:pt x="9451" y="6970"/>
                </a:cubicBezTo>
              </a:path>
              <a:path w="5483" h="1688">
                <a:moveTo>
                  <a:pt x="10517" y="6226"/>
                </a:moveTo>
                <a:cubicBezTo>
                  <a:pt x="10653" y="6163"/>
                  <a:pt x="10752" y="6087"/>
                  <a:pt x="10889" y="6127"/>
                </a:cubicBezTo>
                <a:cubicBezTo>
                  <a:pt x="10996" y="6158"/>
                  <a:pt x="11025" y="6291"/>
                  <a:pt x="11038" y="6400"/>
                </a:cubicBezTo>
                <a:cubicBezTo>
                  <a:pt x="11054" y="6537"/>
                  <a:pt x="10996" y="6675"/>
                  <a:pt x="10939" y="6796"/>
                </a:cubicBezTo>
                <a:cubicBezTo>
                  <a:pt x="10882" y="6918"/>
                  <a:pt x="10827" y="6995"/>
                  <a:pt x="10716" y="7069"/>
                </a:cubicBezTo>
                <a:cubicBezTo>
                  <a:pt x="10632" y="7125"/>
                  <a:pt x="10567" y="7135"/>
                  <a:pt x="10468" y="7144"/>
                </a:cubicBezTo>
                <a:cubicBezTo>
                  <a:pt x="10452" y="7071"/>
                  <a:pt x="10443" y="6993"/>
                  <a:pt x="10542" y="6970"/>
                </a:cubicBezTo>
                <a:cubicBezTo>
                  <a:pt x="10639" y="6947"/>
                  <a:pt x="10693" y="6998"/>
                  <a:pt x="10765" y="7045"/>
                </a:cubicBezTo>
                <a:cubicBezTo>
                  <a:pt x="10850" y="7100"/>
                  <a:pt x="10928" y="7167"/>
                  <a:pt x="11013" y="7218"/>
                </a:cubicBezTo>
                <a:cubicBezTo>
                  <a:pt x="11072" y="7253"/>
                  <a:pt x="11086" y="7249"/>
                  <a:pt x="11137" y="7218"/>
                </a:cubicBezTo>
              </a:path>
              <a:path w="5483" h="1688">
                <a:moveTo>
                  <a:pt x="11286" y="6598"/>
                </a:moveTo>
                <a:cubicBezTo>
                  <a:pt x="11427" y="6598"/>
                  <a:pt x="11567" y="6598"/>
                  <a:pt x="11708" y="6598"/>
                </a:cubicBezTo>
              </a:path>
              <a:path w="5483" h="1688">
                <a:moveTo>
                  <a:pt x="11261" y="6747"/>
                </a:moveTo>
                <a:cubicBezTo>
                  <a:pt x="11341" y="6800"/>
                  <a:pt x="11428" y="6815"/>
                  <a:pt x="11534" y="6796"/>
                </a:cubicBezTo>
                <a:cubicBezTo>
                  <a:pt x="11607" y="6772"/>
                  <a:pt x="11631" y="6764"/>
                  <a:pt x="11683" y="6772"/>
                </a:cubicBezTo>
              </a:path>
              <a:path w="5483" h="1688">
                <a:moveTo>
                  <a:pt x="12055" y="6300"/>
                </a:moveTo>
                <a:cubicBezTo>
                  <a:pt x="12164" y="6246"/>
                  <a:pt x="12299" y="6138"/>
                  <a:pt x="12427" y="6226"/>
                </a:cubicBezTo>
                <a:cubicBezTo>
                  <a:pt x="12508" y="6282"/>
                  <a:pt x="12542" y="6406"/>
                  <a:pt x="12526" y="6499"/>
                </a:cubicBezTo>
                <a:cubicBezTo>
                  <a:pt x="12499" y="6662"/>
                  <a:pt x="12436" y="6818"/>
                  <a:pt x="12328" y="6945"/>
                </a:cubicBezTo>
                <a:cubicBezTo>
                  <a:pt x="12260" y="7025"/>
                  <a:pt x="12196" y="7073"/>
                  <a:pt x="12105" y="7119"/>
                </a:cubicBezTo>
                <a:cubicBezTo>
                  <a:pt x="12043" y="7150"/>
                  <a:pt x="12034" y="7152"/>
                  <a:pt x="11981" y="7119"/>
                </a:cubicBezTo>
                <a:cubicBezTo>
                  <a:pt x="11996" y="7028"/>
                  <a:pt x="12020" y="6926"/>
                  <a:pt x="12129" y="6896"/>
                </a:cubicBezTo>
                <a:cubicBezTo>
                  <a:pt x="12224" y="6870"/>
                  <a:pt x="12258" y="6966"/>
                  <a:pt x="12303" y="7020"/>
                </a:cubicBezTo>
                <a:cubicBezTo>
                  <a:pt x="12343" y="7067"/>
                  <a:pt x="12412" y="7154"/>
                  <a:pt x="12477" y="7169"/>
                </a:cubicBezTo>
                <a:cubicBezTo>
                  <a:pt x="12563" y="7189"/>
                  <a:pt x="12588" y="7161"/>
                  <a:pt x="12626" y="7094"/>
                </a:cubicBezTo>
              </a:path>
              <a:path w="5483" h="1688">
                <a:moveTo>
                  <a:pt x="12998" y="6176"/>
                </a:moveTo>
                <a:cubicBezTo>
                  <a:pt x="13112" y="6164"/>
                  <a:pt x="13297" y="6125"/>
                  <a:pt x="13419" y="6152"/>
                </a:cubicBezTo>
                <a:cubicBezTo>
                  <a:pt x="13436" y="6160"/>
                  <a:pt x="13452" y="6168"/>
                  <a:pt x="13469" y="6176"/>
                </a:cubicBezTo>
              </a:path>
              <a:path w="5483" h="1688">
                <a:moveTo>
                  <a:pt x="12948" y="6201"/>
                </a:moveTo>
                <a:cubicBezTo>
                  <a:pt x="12869" y="6299"/>
                  <a:pt x="12752" y="6373"/>
                  <a:pt x="12824" y="6499"/>
                </a:cubicBezTo>
                <a:cubicBezTo>
                  <a:pt x="12876" y="6590"/>
                  <a:pt x="12947" y="6593"/>
                  <a:pt x="13047" y="6598"/>
                </a:cubicBezTo>
                <a:cubicBezTo>
                  <a:pt x="13132" y="6602"/>
                  <a:pt x="13207" y="6552"/>
                  <a:pt x="13295" y="6573"/>
                </a:cubicBezTo>
                <a:cubicBezTo>
                  <a:pt x="13401" y="6598"/>
                  <a:pt x="13432" y="6729"/>
                  <a:pt x="13444" y="6821"/>
                </a:cubicBezTo>
                <a:cubicBezTo>
                  <a:pt x="13457" y="6919"/>
                  <a:pt x="13483" y="7001"/>
                  <a:pt x="13444" y="7094"/>
                </a:cubicBezTo>
                <a:cubicBezTo>
                  <a:pt x="13412" y="7170"/>
                  <a:pt x="13353" y="7202"/>
                  <a:pt x="13271" y="7218"/>
                </a:cubicBezTo>
                <a:cubicBezTo>
                  <a:pt x="13109" y="7249"/>
                  <a:pt x="12909" y="7214"/>
                  <a:pt x="12750" y="7193"/>
                </a:cubicBezTo>
              </a:path>
              <a:path w="5483" h="1688">
                <a:moveTo>
                  <a:pt x="11658" y="6970"/>
                </a:moveTo>
                <a:cubicBezTo>
                  <a:pt x="11837" y="7034"/>
                  <a:pt x="12017" y="7083"/>
                  <a:pt x="12204" y="7119"/>
                </a:cubicBezTo>
                <a:cubicBezTo>
                  <a:pt x="12425" y="7161"/>
                  <a:pt x="12649" y="7225"/>
                  <a:pt x="12874" y="7243"/>
                </a:cubicBezTo>
                <a:cubicBezTo>
                  <a:pt x="12967" y="7250"/>
                  <a:pt x="13025" y="7231"/>
                  <a:pt x="13097" y="7218"/>
                </a:cubicBezTo>
                <a:cubicBezTo>
                  <a:pt x="12984" y="7095"/>
                  <a:pt x="12823" y="7040"/>
                  <a:pt x="12650" y="7020"/>
                </a:cubicBezTo>
                <a:cubicBezTo>
                  <a:pt x="12519" y="7005"/>
                  <a:pt x="12369" y="7025"/>
                  <a:pt x="12254" y="7045"/>
                </a:cubicBezTo>
                <a:cubicBezTo>
                  <a:pt x="12372" y="7163"/>
                  <a:pt x="12523" y="7181"/>
                  <a:pt x="12700" y="7193"/>
                </a:cubicBezTo>
                <a:cubicBezTo>
                  <a:pt x="12874" y="7205"/>
                  <a:pt x="13088" y="7204"/>
                  <a:pt x="13246" y="7119"/>
                </a:cubicBezTo>
                <a:cubicBezTo>
                  <a:pt x="13290" y="7074"/>
                  <a:pt x="13306" y="7064"/>
                  <a:pt x="13295" y="7020"/>
                </a:cubicBezTo>
                <a:cubicBezTo>
                  <a:pt x="13134" y="6904"/>
                  <a:pt x="12962" y="6815"/>
                  <a:pt x="12774" y="6747"/>
                </a:cubicBezTo>
                <a:cubicBezTo>
                  <a:pt x="12664" y="6708"/>
                  <a:pt x="12558" y="6671"/>
                  <a:pt x="12452" y="6623"/>
                </a:cubicBezTo>
                <a:cubicBezTo>
                  <a:pt x="12610" y="6532"/>
                  <a:pt x="12729" y="6548"/>
                  <a:pt x="12898" y="6499"/>
                </a:cubicBezTo>
                <a:cubicBezTo>
                  <a:pt x="13004" y="6468"/>
                  <a:pt x="13103" y="6425"/>
                  <a:pt x="13196" y="6375"/>
                </a:cubicBezTo>
                <a:cubicBezTo>
                  <a:pt x="13065" y="6317"/>
                  <a:pt x="12964" y="6339"/>
                  <a:pt x="12824" y="6325"/>
                </a:cubicBezTo>
                <a:cubicBezTo>
                  <a:pt x="12673" y="6310"/>
                  <a:pt x="12530" y="6300"/>
                  <a:pt x="12378" y="6300"/>
                </a:cubicBezTo>
                <a:cubicBezTo>
                  <a:pt x="12536" y="6263"/>
                  <a:pt x="12690" y="6252"/>
                  <a:pt x="12849" y="6226"/>
                </a:cubicBezTo>
                <a:cubicBezTo>
                  <a:pt x="12871" y="6222"/>
                  <a:pt x="13344" y="6077"/>
                  <a:pt x="13122" y="6077"/>
                </a:cubicBezTo>
                <a:cubicBezTo>
                  <a:pt x="12941" y="6077"/>
                  <a:pt x="12730" y="6095"/>
                  <a:pt x="12551" y="6127"/>
                </a:cubicBezTo>
                <a:cubicBezTo>
                  <a:pt x="12349" y="6127"/>
                  <a:pt x="12815" y="6150"/>
                  <a:pt x="12849" y="6152"/>
                </a:cubicBezTo>
                <a:cubicBezTo>
                  <a:pt x="12890" y="6152"/>
                  <a:pt x="12932" y="6152"/>
                  <a:pt x="12973" y="6152"/>
                </a:cubicBezTo>
              </a:path>
              <a:path w="5483" h="1688">
                <a:moveTo>
                  <a:pt x="13816" y="6077"/>
                </a:moveTo>
                <a:cubicBezTo>
                  <a:pt x="13809" y="6153"/>
                  <a:pt x="13746" y="6279"/>
                  <a:pt x="13767" y="6350"/>
                </a:cubicBezTo>
                <a:cubicBezTo>
                  <a:pt x="13775" y="6358"/>
                  <a:pt x="13783" y="6367"/>
                  <a:pt x="13791" y="6375"/>
                </a:cubicBezTo>
                <a:cubicBezTo>
                  <a:pt x="13850" y="6341"/>
                  <a:pt x="13880" y="6310"/>
                  <a:pt x="13915" y="6251"/>
                </a:cubicBezTo>
                <a:cubicBezTo>
                  <a:pt x="13957" y="6181"/>
                  <a:pt x="13993" y="6134"/>
                  <a:pt x="14039" y="6077"/>
                </a:cubicBezTo>
                <a:cubicBezTo>
                  <a:pt x="14089" y="6014"/>
                  <a:pt x="14115" y="6014"/>
                  <a:pt x="14188" y="6052"/>
                </a:cubicBezTo>
                <a:cubicBezTo>
                  <a:pt x="14273" y="6097"/>
                  <a:pt x="14303" y="6205"/>
                  <a:pt x="14312" y="6300"/>
                </a:cubicBezTo>
                <a:cubicBezTo>
                  <a:pt x="14329" y="6471"/>
                  <a:pt x="14283" y="6644"/>
                  <a:pt x="14213" y="6796"/>
                </a:cubicBezTo>
                <a:cubicBezTo>
                  <a:pt x="14154" y="6924"/>
                  <a:pt x="14074" y="7060"/>
                  <a:pt x="13965" y="7144"/>
                </a:cubicBezTo>
                <a:cubicBezTo>
                  <a:pt x="13909" y="7187"/>
                  <a:pt x="13811" y="7262"/>
                  <a:pt x="13742" y="7193"/>
                </a:cubicBezTo>
                <a:cubicBezTo>
                  <a:pt x="13664" y="7116"/>
                  <a:pt x="13677" y="7039"/>
                  <a:pt x="13742" y="6970"/>
                </a:cubicBezTo>
                <a:cubicBezTo>
                  <a:pt x="13835" y="6871"/>
                  <a:pt x="13942" y="6775"/>
                  <a:pt x="14064" y="6896"/>
                </a:cubicBezTo>
                <a:cubicBezTo>
                  <a:pt x="14138" y="6970"/>
                  <a:pt x="14209" y="7079"/>
                  <a:pt x="14263" y="7169"/>
                </a:cubicBezTo>
                <a:cubicBezTo>
                  <a:pt x="14328" y="7277"/>
                  <a:pt x="14356" y="7233"/>
                  <a:pt x="14412" y="7144"/>
                </a:cubicBezTo>
              </a:path>
              <a:path w="5483" h="1688">
                <a:moveTo>
                  <a:pt x="14511" y="5655"/>
                </a:moveTo>
                <a:cubicBezTo>
                  <a:pt x="14627" y="5615"/>
                  <a:pt x="14700" y="5635"/>
                  <a:pt x="14808" y="5606"/>
                </a:cubicBezTo>
                <a:cubicBezTo>
                  <a:pt x="14825" y="5598"/>
                  <a:pt x="14841" y="5589"/>
                  <a:pt x="14858" y="5581"/>
                </a:cubicBezTo>
              </a:path>
              <a:path w="5483" h="1688">
                <a:moveTo>
                  <a:pt x="14461" y="5631"/>
                </a:moveTo>
                <a:cubicBezTo>
                  <a:pt x="14393" y="5688"/>
                  <a:pt x="14288" y="5737"/>
                  <a:pt x="14362" y="5829"/>
                </a:cubicBezTo>
                <a:cubicBezTo>
                  <a:pt x="14409" y="5888"/>
                  <a:pt x="14448" y="5883"/>
                  <a:pt x="14511" y="5904"/>
                </a:cubicBezTo>
                <a:cubicBezTo>
                  <a:pt x="14574" y="5925"/>
                  <a:pt x="14685" y="5907"/>
                  <a:pt x="14734" y="5953"/>
                </a:cubicBezTo>
                <a:cubicBezTo>
                  <a:pt x="14785" y="6000"/>
                  <a:pt x="14801" y="6113"/>
                  <a:pt x="14784" y="6176"/>
                </a:cubicBezTo>
                <a:cubicBezTo>
                  <a:pt x="14752" y="6296"/>
                  <a:pt x="14629" y="6273"/>
                  <a:pt x="14536" y="6251"/>
                </a:cubicBezTo>
                <a:cubicBezTo>
                  <a:pt x="14445" y="6229"/>
                  <a:pt x="14354" y="6199"/>
                  <a:pt x="14263" y="61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rite the exponent in log form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6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5/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24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Ink 4"/>
          <p:cNvSpPr/>
          <p:nvPr/>
        </p:nvSpPr>
        <p:spPr>
          <a:xfrm>
            <a:off x="3197160" y="1411200"/>
            <a:ext cx="1938240" cy="982800"/>
          </a:xfrm>
          <a:custGeom>
            <a:avLst/>
            <a:gdLst/>
            <a:ahLst/>
            <a:rect l="l" t="t" r="r" b="b"/>
            <a:pathLst>
              <a:path w="5384" h="2730">
                <a:moveTo>
                  <a:pt x="8905" y="3919"/>
                </a:moveTo>
                <a:cubicBezTo>
                  <a:pt x="8936" y="4052"/>
                  <a:pt x="8916" y="4135"/>
                  <a:pt x="8905" y="4266"/>
                </a:cubicBezTo>
                <a:cubicBezTo>
                  <a:pt x="8866" y="4714"/>
                  <a:pt x="9112" y="5992"/>
                  <a:pt x="8880" y="5606"/>
                </a:cubicBezTo>
                <a:cubicBezTo>
                  <a:pt x="8880" y="5564"/>
                  <a:pt x="8880" y="5556"/>
                  <a:pt x="8880" y="5531"/>
                </a:cubicBezTo>
              </a:path>
              <a:path w="5384" h="2730">
                <a:moveTo>
                  <a:pt x="9178" y="4713"/>
                </a:moveTo>
                <a:cubicBezTo>
                  <a:pt x="9233" y="4769"/>
                  <a:pt x="9244" y="4843"/>
                  <a:pt x="9227" y="4936"/>
                </a:cubicBezTo>
                <a:cubicBezTo>
                  <a:pt x="9208" y="5037"/>
                  <a:pt x="9161" y="5154"/>
                  <a:pt x="9178" y="5259"/>
                </a:cubicBezTo>
                <a:cubicBezTo>
                  <a:pt x="9194" y="5356"/>
                  <a:pt x="9224" y="5403"/>
                  <a:pt x="9277" y="5482"/>
                </a:cubicBezTo>
                <a:cubicBezTo>
                  <a:pt x="9315" y="5539"/>
                  <a:pt x="9371" y="5595"/>
                  <a:pt x="9451" y="5581"/>
                </a:cubicBezTo>
                <a:cubicBezTo>
                  <a:pt x="9567" y="5561"/>
                  <a:pt x="9632" y="5535"/>
                  <a:pt x="9723" y="5457"/>
                </a:cubicBezTo>
                <a:cubicBezTo>
                  <a:pt x="9807" y="5385"/>
                  <a:pt x="9858" y="5312"/>
                  <a:pt x="9897" y="5209"/>
                </a:cubicBezTo>
                <a:cubicBezTo>
                  <a:pt x="9936" y="5106"/>
                  <a:pt x="9928" y="5014"/>
                  <a:pt x="9897" y="4911"/>
                </a:cubicBezTo>
                <a:cubicBezTo>
                  <a:pt x="9871" y="4824"/>
                  <a:pt x="9796" y="4720"/>
                  <a:pt x="9723" y="4663"/>
                </a:cubicBezTo>
                <a:cubicBezTo>
                  <a:pt x="9652" y="4608"/>
                  <a:pt x="9560" y="4593"/>
                  <a:pt x="9475" y="4589"/>
                </a:cubicBezTo>
                <a:cubicBezTo>
                  <a:pt x="9383" y="4585"/>
                  <a:pt x="9322" y="4615"/>
                  <a:pt x="9277" y="4688"/>
                </a:cubicBezTo>
                <a:cubicBezTo>
                  <a:pt x="9194" y="4821"/>
                  <a:pt x="9178" y="4885"/>
                  <a:pt x="9178" y="5035"/>
                </a:cubicBezTo>
                <a:cubicBezTo>
                  <a:pt x="9178" y="5138"/>
                  <a:pt x="9217" y="5214"/>
                  <a:pt x="9252" y="5308"/>
                </a:cubicBezTo>
                <a:cubicBezTo>
                  <a:pt x="9283" y="5391"/>
                  <a:pt x="9314" y="5419"/>
                  <a:pt x="9376" y="5482"/>
                </a:cubicBezTo>
              </a:path>
              <a:path w="5384" h="2730">
                <a:moveTo>
                  <a:pt x="10468" y="5035"/>
                </a:moveTo>
                <a:cubicBezTo>
                  <a:pt x="10504" y="4879"/>
                  <a:pt x="10593" y="4756"/>
                  <a:pt x="10468" y="4638"/>
                </a:cubicBezTo>
                <a:cubicBezTo>
                  <a:pt x="10403" y="4576"/>
                  <a:pt x="10371" y="4588"/>
                  <a:pt x="10294" y="4614"/>
                </a:cubicBezTo>
                <a:cubicBezTo>
                  <a:pt x="10175" y="4655"/>
                  <a:pt x="10129" y="4696"/>
                  <a:pt x="10046" y="4787"/>
                </a:cubicBezTo>
                <a:cubicBezTo>
                  <a:pt x="9974" y="4866"/>
                  <a:pt x="9936" y="4977"/>
                  <a:pt x="9922" y="5085"/>
                </a:cubicBezTo>
                <a:cubicBezTo>
                  <a:pt x="9908" y="5189"/>
                  <a:pt x="9936" y="5264"/>
                  <a:pt x="9971" y="5358"/>
                </a:cubicBezTo>
                <a:cubicBezTo>
                  <a:pt x="10000" y="5435"/>
                  <a:pt x="10057" y="5487"/>
                  <a:pt x="10145" y="5507"/>
                </a:cubicBezTo>
                <a:cubicBezTo>
                  <a:pt x="10242" y="5529"/>
                  <a:pt x="10273" y="5480"/>
                  <a:pt x="10344" y="5432"/>
                </a:cubicBezTo>
                <a:cubicBezTo>
                  <a:pt x="10431" y="5373"/>
                  <a:pt x="10458" y="5307"/>
                  <a:pt x="10492" y="5209"/>
                </a:cubicBezTo>
                <a:cubicBezTo>
                  <a:pt x="10519" y="5131"/>
                  <a:pt x="10538" y="5043"/>
                  <a:pt x="10542" y="4961"/>
                </a:cubicBezTo>
                <a:cubicBezTo>
                  <a:pt x="10545" y="4895"/>
                  <a:pt x="10542" y="4828"/>
                  <a:pt x="10542" y="4762"/>
                </a:cubicBezTo>
                <a:cubicBezTo>
                  <a:pt x="10503" y="4866"/>
                  <a:pt x="10517" y="4972"/>
                  <a:pt x="10517" y="5085"/>
                </a:cubicBezTo>
                <a:cubicBezTo>
                  <a:pt x="10517" y="5262"/>
                  <a:pt x="10530" y="5431"/>
                  <a:pt x="10542" y="5606"/>
                </a:cubicBezTo>
                <a:cubicBezTo>
                  <a:pt x="10556" y="5807"/>
                  <a:pt x="10592" y="5998"/>
                  <a:pt x="10592" y="6201"/>
                </a:cubicBezTo>
                <a:cubicBezTo>
                  <a:pt x="10592" y="6318"/>
                  <a:pt x="10608" y="6437"/>
                  <a:pt x="10567" y="6548"/>
                </a:cubicBezTo>
                <a:cubicBezTo>
                  <a:pt x="10535" y="6636"/>
                  <a:pt x="10449" y="6644"/>
                  <a:pt x="10368" y="6648"/>
                </a:cubicBezTo>
                <a:cubicBezTo>
                  <a:pt x="10274" y="6653"/>
                  <a:pt x="10161" y="6625"/>
                  <a:pt x="10071" y="6598"/>
                </a:cubicBezTo>
                <a:cubicBezTo>
                  <a:pt x="9980" y="6571"/>
                  <a:pt x="9909" y="6567"/>
                  <a:pt x="9823" y="6524"/>
                </a:cubicBezTo>
                <a:cubicBezTo>
                  <a:pt x="9765" y="6495"/>
                  <a:pt x="9723" y="6463"/>
                  <a:pt x="9699" y="6400"/>
                </a:cubicBezTo>
                <a:cubicBezTo>
                  <a:pt x="9699" y="6392"/>
                  <a:pt x="9699" y="6383"/>
                  <a:pt x="9699" y="6375"/>
                </a:cubicBezTo>
              </a:path>
              <a:path w="5384" h="2730">
                <a:moveTo>
                  <a:pt x="11112" y="5383"/>
                </a:moveTo>
                <a:cubicBezTo>
                  <a:pt x="11062" y="5332"/>
                  <a:pt x="11017" y="5314"/>
                  <a:pt x="10939" y="5333"/>
                </a:cubicBezTo>
                <a:cubicBezTo>
                  <a:pt x="10889" y="5345"/>
                  <a:pt x="10822" y="5400"/>
                  <a:pt x="10840" y="5457"/>
                </a:cubicBezTo>
                <a:cubicBezTo>
                  <a:pt x="10861" y="5521"/>
                  <a:pt x="10930" y="5532"/>
                  <a:pt x="10964" y="5581"/>
                </a:cubicBezTo>
                <a:cubicBezTo>
                  <a:pt x="10996" y="5627"/>
                  <a:pt x="11050" y="5699"/>
                  <a:pt x="11063" y="5755"/>
                </a:cubicBezTo>
                <a:cubicBezTo>
                  <a:pt x="11076" y="5812"/>
                  <a:pt x="11035" y="5903"/>
                  <a:pt x="10964" y="5879"/>
                </a:cubicBezTo>
                <a:cubicBezTo>
                  <a:pt x="10912" y="5861"/>
                  <a:pt x="10897" y="5774"/>
                  <a:pt x="10914" y="5730"/>
                </a:cubicBezTo>
                <a:cubicBezTo>
                  <a:pt x="10932" y="5683"/>
                  <a:pt x="10966" y="5652"/>
                  <a:pt x="10988" y="5606"/>
                </a:cubicBezTo>
                <a:cubicBezTo>
                  <a:pt x="11020" y="5538"/>
                  <a:pt x="11057" y="5481"/>
                  <a:pt x="11063" y="5407"/>
                </a:cubicBezTo>
                <a:cubicBezTo>
                  <a:pt x="11063" y="5399"/>
                  <a:pt x="11063" y="5391"/>
                  <a:pt x="11063" y="5383"/>
                </a:cubicBezTo>
              </a:path>
              <a:path w="5384" h="2730">
                <a:moveTo>
                  <a:pt x="11683" y="4217"/>
                </a:moveTo>
                <a:cubicBezTo>
                  <a:pt x="11652" y="4328"/>
                  <a:pt x="11593" y="4405"/>
                  <a:pt x="11559" y="4514"/>
                </a:cubicBezTo>
                <a:cubicBezTo>
                  <a:pt x="11531" y="4603"/>
                  <a:pt x="11497" y="4742"/>
                  <a:pt x="11485" y="4837"/>
                </a:cubicBezTo>
                <a:cubicBezTo>
                  <a:pt x="11474" y="4918"/>
                  <a:pt x="11446" y="5057"/>
                  <a:pt x="11460" y="5135"/>
                </a:cubicBezTo>
                <a:cubicBezTo>
                  <a:pt x="11476" y="5223"/>
                  <a:pt x="11523" y="5282"/>
                  <a:pt x="11584" y="5333"/>
                </a:cubicBezTo>
                <a:cubicBezTo>
                  <a:pt x="11629" y="5370"/>
                  <a:pt x="11746" y="5370"/>
                  <a:pt x="11807" y="5358"/>
                </a:cubicBezTo>
                <a:cubicBezTo>
                  <a:pt x="11899" y="5340"/>
                  <a:pt x="12030" y="5286"/>
                  <a:pt x="12105" y="5234"/>
                </a:cubicBezTo>
                <a:cubicBezTo>
                  <a:pt x="12185" y="5179"/>
                  <a:pt x="12221" y="5073"/>
                  <a:pt x="12229" y="4986"/>
                </a:cubicBezTo>
                <a:cubicBezTo>
                  <a:pt x="12229" y="4934"/>
                  <a:pt x="12228" y="4916"/>
                  <a:pt x="12204" y="4887"/>
                </a:cubicBezTo>
                <a:cubicBezTo>
                  <a:pt x="12126" y="4895"/>
                  <a:pt x="12085" y="4905"/>
                  <a:pt x="12030" y="4961"/>
                </a:cubicBezTo>
                <a:cubicBezTo>
                  <a:pt x="11980" y="5012"/>
                  <a:pt x="11947" y="5111"/>
                  <a:pt x="11931" y="5184"/>
                </a:cubicBezTo>
                <a:cubicBezTo>
                  <a:pt x="11919" y="5241"/>
                  <a:pt x="11939" y="5287"/>
                  <a:pt x="11956" y="5333"/>
                </a:cubicBezTo>
              </a:path>
              <a:path w="5384" h="2730">
                <a:moveTo>
                  <a:pt x="12303" y="4291"/>
                </a:moveTo>
                <a:cubicBezTo>
                  <a:pt x="12261" y="4365"/>
                  <a:pt x="12260" y="4410"/>
                  <a:pt x="12229" y="4490"/>
                </a:cubicBezTo>
                <a:cubicBezTo>
                  <a:pt x="12215" y="4527"/>
                  <a:pt x="12129" y="4634"/>
                  <a:pt x="12204" y="4663"/>
                </a:cubicBezTo>
                <a:cubicBezTo>
                  <a:pt x="12274" y="4690"/>
                  <a:pt x="12437" y="4670"/>
                  <a:pt x="12502" y="4638"/>
                </a:cubicBezTo>
                <a:cubicBezTo>
                  <a:pt x="12527" y="4626"/>
                  <a:pt x="12556" y="4584"/>
                  <a:pt x="12576" y="4564"/>
                </a:cubicBezTo>
              </a:path>
              <a:path w="5384" h="2730">
                <a:moveTo>
                  <a:pt x="12526" y="3994"/>
                </a:moveTo>
                <a:cubicBezTo>
                  <a:pt x="12536" y="4073"/>
                  <a:pt x="12551" y="4133"/>
                  <a:pt x="12551" y="4217"/>
                </a:cubicBezTo>
                <a:cubicBezTo>
                  <a:pt x="12551" y="4336"/>
                  <a:pt x="12530" y="4446"/>
                  <a:pt x="12526" y="4564"/>
                </a:cubicBezTo>
                <a:cubicBezTo>
                  <a:pt x="12522" y="4685"/>
                  <a:pt x="12539" y="4795"/>
                  <a:pt x="12551" y="4911"/>
                </a:cubicBezTo>
                <a:cubicBezTo>
                  <a:pt x="12562" y="5013"/>
                  <a:pt x="12585" y="5113"/>
                  <a:pt x="12601" y="5209"/>
                </a:cubicBezTo>
                <a:cubicBezTo>
                  <a:pt x="12601" y="5254"/>
                  <a:pt x="12597" y="5267"/>
                  <a:pt x="12626" y="5283"/>
                </a:cubicBezTo>
              </a:path>
              <a:path w="5384" h="2730">
                <a:moveTo>
                  <a:pt x="12898" y="4688"/>
                </a:moveTo>
                <a:cubicBezTo>
                  <a:pt x="12989" y="4688"/>
                  <a:pt x="13257" y="4722"/>
                  <a:pt x="13295" y="4663"/>
                </a:cubicBezTo>
              </a:path>
              <a:path w="5384" h="2730">
                <a:moveTo>
                  <a:pt x="12898" y="4961"/>
                </a:moveTo>
                <a:cubicBezTo>
                  <a:pt x="12982" y="4961"/>
                  <a:pt x="13043" y="4940"/>
                  <a:pt x="13122" y="4936"/>
                </a:cubicBezTo>
                <a:cubicBezTo>
                  <a:pt x="13173" y="4936"/>
                  <a:pt x="13192" y="4935"/>
                  <a:pt x="13221" y="4911"/>
                </a:cubicBezTo>
              </a:path>
              <a:path w="5384" h="2730">
                <a:moveTo>
                  <a:pt x="13494" y="4390"/>
                </a:moveTo>
                <a:cubicBezTo>
                  <a:pt x="13561" y="4308"/>
                  <a:pt x="13619" y="4240"/>
                  <a:pt x="13692" y="4167"/>
                </a:cubicBezTo>
                <a:cubicBezTo>
                  <a:pt x="13751" y="4108"/>
                  <a:pt x="13829" y="4099"/>
                  <a:pt x="13891" y="4068"/>
                </a:cubicBezTo>
                <a:cubicBezTo>
                  <a:pt x="13949" y="4039"/>
                  <a:pt x="13999" y="4028"/>
                  <a:pt x="14064" y="4068"/>
                </a:cubicBezTo>
                <a:cubicBezTo>
                  <a:pt x="14129" y="4108"/>
                  <a:pt x="14072" y="4201"/>
                  <a:pt x="14039" y="4242"/>
                </a:cubicBezTo>
                <a:cubicBezTo>
                  <a:pt x="14000" y="4290"/>
                  <a:pt x="13934" y="4356"/>
                  <a:pt x="13891" y="4390"/>
                </a:cubicBezTo>
                <a:cubicBezTo>
                  <a:pt x="13832" y="4437"/>
                  <a:pt x="13771" y="4496"/>
                  <a:pt x="13717" y="4539"/>
                </a:cubicBezTo>
                <a:cubicBezTo>
                  <a:pt x="13647" y="4595"/>
                  <a:pt x="13605" y="4647"/>
                  <a:pt x="13543" y="4713"/>
                </a:cubicBezTo>
                <a:cubicBezTo>
                  <a:pt x="13488" y="4771"/>
                  <a:pt x="13432" y="4867"/>
                  <a:pt x="13370" y="4911"/>
                </a:cubicBezTo>
                <a:cubicBezTo>
                  <a:pt x="13307" y="4955"/>
                  <a:pt x="13297" y="5003"/>
                  <a:pt x="13246" y="5060"/>
                </a:cubicBezTo>
                <a:cubicBezTo>
                  <a:pt x="13238" y="5068"/>
                  <a:pt x="13229" y="5077"/>
                  <a:pt x="13221" y="5085"/>
                </a:cubicBezTo>
                <a:cubicBezTo>
                  <a:pt x="13288" y="5119"/>
                  <a:pt x="13345" y="5094"/>
                  <a:pt x="13419" y="5110"/>
                </a:cubicBezTo>
                <a:cubicBezTo>
                  <a:pt x="13549" y="5138"/>
                  <a:pt x="13686" y="5135"/>
                  <a:pt x="13816" y="5159"/>
                </a:cubicBezTo>
                <a:cubicBezTo>
                  <a:pt x="13908" y="5176"/>
                  <a:pt x="14000" y="5219"/>
                  <a:pt x="14089" y="5234"/>
                </a:cubicBezTo>
                <a:cubicBezTo>
                  <a:pt x="14112" y="5238"/>
                  <a:pt x="14372" y="5252"/>
                  <a:pt x="14213" y="5184"/>
                </a:cubicBezTo>
                <a:cubicBezTo>
                  <a:pt x="14196" y="5184"/>
                  <a:pt x="14180" y="5184"/>
                  <a:pt x="14163" y="51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Ink 5"/>
          <p:cNvSpPr/>
          <p:nvPr/>
        </p:nvSpPr>
        <p:spPr>
          <a:xfrm>
            <a:off x="3268800" y="2374920"/>
            <a:ext cx="2455560" cy="947880"/>
          </a:xfrm>
          <a:custGeom>
            <a:avLst/>
            <a:gdLst/>
            <a:ahLst/>
            <a:rect l="l" t="t" r="r" b="b"/>
            <a:pathLst>
              <a:path w="6822" h="2630">
                <a:moveTo>
                  <a:pt x="9103" y="6598"/>
                </a:moveTo>
                <a:cubicBezTo>
                  <a:pt x="9103" y="6799"/>
                  <a:pt x="9093" y="6996"/>
                  <a:pt x="9079" y="7193"/>
                </a:cubicBezTo>
                <a:cubicBezTo>
                  <a:pt x="9067" y="7361"/>
                  <a:pt x="9099" y="7522"/>
                  <a:pt x="9103" y="7689"/>
                </a:cubicBezTo>
                <a:cubicBezTo>
                  <a:pt x="9106" y="7818"/>
                  <a:pt x="9124" y="7935"/>
                  <a:pt x="9128" y="8062"/>
                </a:cubicBezTo>
                <a:cubicBezTo>
                  <a:pt x="9130" y="8116"/>
                  <a:pt x="9136" y="8243"/>
                  <a:pt x="9178" y="8285"/>
                </a:cubicBezTo>
                <a:cubicBezTo>
                  <a:pt x="9186" y="8285"/>
                  <a:pt x="9195" y="8285"/>
                  <a:pt x="9203" y="8285"/>
                </a:cubicBezTo>
              </a:path>
              <a:path w="6822" h="2630">
                <a:moveTo>
                  <a:pt x="9401" y="7590"/>
                </a:moveTo>
                <a:cubicBezTo>
                  <a:pt x="9394" y="7666"/>
                  <a:pt x="9394" y="7764"/>
                  <a:pt x="9376" y="7838"/>
                </a:cubicBezTo>
                <a:cubicBezTo>
                  <a:pt x="9348" y="7953"/>
                  <a:pt x="9340" y="8052"/>
                  <a:pt x="9401" y="8161"/>
                </a:cubicBezTo>
                <a:cubicBezTo>
                  <a:pt x="9424" y="8203"/>
                  <a:pt x="9477" y="8272"/>
                  <a:pt x="9525" y="8285"/>
                </a:cubicBezTo>
                <a:cubicBezTo>
                  <a:pt x="9587" y="8302"/>
                  <a:pt x="9668" y="8285"/>
                  <a:pt x="9723" y="8260"/>
                </a:cubicBezTo>
                <a:cubicBezTo>
                  <a:pt x="9818" y="8218"/>
                  <a:pt x="9840" y="8155"/>
                  <a:pt x="9872" y="8062"/>
                </a:cubicBezTo>
                <a:cubicBezTo>
                  <a:pt x="9899" y="7984"/>
                  <a:pt x="9913" y="7873"/>
                  <a:pt x="9897" y="7789"/>
                </a:cubicBezTo>
                <a:cubicBezTo>
                  <a:pt x="9878" y="7693"/>
                  <a:pt x="9823" y="7640"/>
                  <a:pt x="9773" y="7565"/>
                </a:cubicBezTo>
                <a:cubicBezTo>
                  <a:pt x="9727" y="7496"/>
                  <a:pt x="9684" y="7471"/>
                  <a:pt x="9599" y="7466"/>
                </a:cubicBezTo>
                <a:cubicBezTo>
                  <a:pt x="9516" y="7461"/>
                  <a:pt x="9448" y="7525"/>
                  <a:pt x="9401" y="7590"/>
                </a:cubicBezTo>
                <a:cubicBezTo>
                  <a:pt x="9359" y="7648"/>
                  <a:pt x="9335" y="7742"/>
                  <a:pt x="9351" y="7813"/>
                </a:cubicBezTo>
                <a:cubicBezTo>
                  <a:pt x="9378" y="7936"/>
                  <a:pt x="9509" y="8012"/>
                  <a:pt x="9599" y="8086"/>
                </a:cubicBezTo>
              </a:path>
              <a:path w="6822" h="2630">
                <a:moveTo>
                  <a:pt x="10517" y="7714"/>
                </a:moveTo>
                <a:cubicBezTo>
                  <a:pt x="10465" y="7627"/>
                  <a:pt x="10478" y="7608"/>
                  <a:pt x="10368" y="7590"/>
                </a:cubicBezTo>
                <a:cubicBezTo>
                  <a:pt x="10305" y="7579"/>
                  <a:pt x="10172" y="7630"/>
                  <a:pt x="10120" y="7665"/>
                </a:cubicBezTo>
                <a:cubicBezTo>
                  <a:pt x="10055" y="7708"/>
                  <a:pt x="9971" y="7838"/>
                  <a:pt x="9971" y="7913"/>
                </a:cubicBezTo>
                <a:cubicBezTo>
                  <a:pt x="9971" y="7988"/>
                  <a:pt x="10036" y="8068"/>
                  <a:pt x="10096" y="8111"/>
                </a:cubicBezTo>
                <a:cubicBezTo>
                  <a:pt x="10176" y="8169"/>
                  <a:pt x="10295" y="8206"/>
                  <a:pt x="10393" y="8186"/>
                </a:cubicBezTo>
                <a:cubicBezTo>
                  <a:pt x="10447" y="8175"/>
                  <a:pt x="10576" y="8129"/>
                  <a:pt x="10616" y="8086"/>
                </a:cubicBezTo>
                <a:cubicBezTo>
                  <a:pt x="10677" y="8020"/>
                  <a:pt x="10712" y="7896"/>
                  <a:pt x="10716" y="7813"/>
                </a:cubicBezTo>
                <a:cubicBezTo>
                  <a:pt x="10716" y="7797"/>
                  <a:pt x="10716" y="7780"/>
                  <a:pt x="10716" y="7764"/>
                </a:cubicBezTo>
                <a:cubicBezTo>
                  <a:pt x="10682" y="7839"/>
                  <a:pt x="10666" y="7851"/>
                  <a:pt x="10666" y="7938"/>
                </a:cubicBezTo>
                <a:cubicBezTo>
                  <a:pt x="10666" y="8107"/>
                  <a:pt x="10678" y="8269"/>
                  <a:pt x="10691" y="8434"/>
                </a:cubicBezTo>
                <a:cubicBezTo>
                  <a:pt x="10701" y="8563"/>
                  <a:pt x="10748" y="8731"/>
                  <a:pt x="10740" y="8855"/>
                </a:cubicBezTo>
                <a:cubicBezTo>
                  <a:pt x="10734" y="8944"/>
                  <a:pt x="10700" y="9027"/>
                  <a:pt x="10666" y="9103"/>
                </a:cubicBezTo>
                <a:cubicBezTo>
                  <a:pt x="10636" y="9171"/>
                  <a:pt x="10562" y="9221"/>
                  <a:pt x="10492" y="9227"/>
                </a:cubicBezTo>
                <a:cubicBezTo>
                  <a:pt x="10338" y="9240"/>
                  <a:pt x="10176" y="9227"/>
                  <a:pt x="10021" y="9227"/>
                </a:cubicBezTo>
              </a:path>
              <a:path w="6822" h="2630">
                <a:moveTo>
                  <a:pt x="11137" y="8210"/>
                </a:moveTo>
                <a:cubicBezTo>
                  <a:pt x="11180" y="8225"/>
                  <a:pt x="11180" y="8150"/>
                  <a:pt x="11162" y="8086"/>
                </a:cubicBezTo>
                <a:cubicBezTo>
                  <a:pt x="11143" y="8019"/>
                  <a:pt x="11084" y="7968"/>
                  <a:pt x="11013" y="7987"/>
                </a:cubicBezTo>
                <a:cubicBezTo>
                  <a:pt x="10982" y="7995"/>
                  <a:pt x="10919" y="8084"/>
                  <a:pt x="10914" y="8111"/>
                </a:cubicBezTo>
                <a:cubicBezTo>
                  <a:pt x="10906" y="8157"/>
                  <a:pt x="10931" y="8290"/>
                  <a:pt x="10988" y="8310"/>
                </a:cubicBezTo>
                <a:cubicBezTo>
                  <a:pt x="11051" y="8333"/>
                  <a:pt x="11117" y="8300"/>
                  <a:pt x="11162" y="8260"/>
                </a:cubicBezTo>
                <a:cubicBezTo>
                  <a:pt x="11187" y="8235"/>
                  <a:pt x="11195" y="8227"/>
                  <a:pt x="11212" y="8210"/>
                </a:cubicBezTo>
                <a:cubicBezTo>
                  <a:pt x="11212" y="8356"/>
                  <a:pt x="11203" y="8491"/>
                  <a:pt x="11187" y="8632"/>
                </a:cubicBezTo>
                <a:cubicBezTo>
                  <a:pt x="11187" y="8706"/>
                  <a:pt x="11187" y="8731"/>
                  <a:pt x="11187" y="8632"/>
                </a:cubicBezTo>
              </a:path>
              <a:path w="6822" h="2630">
                <a:moveTo>
                  <a:pt x="11807" y="7045"/>
                </a:moveTo>
                <a:cubicBezTo>
                  <a:pt x="11778" y="7073"/>
                  <a:pt x="11770" y="7086"/>
                  <a:pt x="11782" y="7119"/>
                </a:cubicBezTo>
                <a:cubicBezTo>
                  <a:pt x="11810" y="7070"/>
                  <a:pt x="11859" y="7020"/>
                  <a:pt x="11881" y="6970"/>
                </a:cubicBezTo>
                <a:cubicBezTo>
                  <a:pt x="11903" y="6921"/>
                  <a:pt x="11924" y="6848"/>
                  <a:pt x="11981" y="6821"/>
                </a:cubicBezTo>
                <a:cubicBezTo>
                  <a:pt x="12049" y="6789"/>
                  <a:pt x="12127" y="6785"/>
                  <a:pt x="12179" y="6846"/>
                </a:cubicBezTo>
                <a:cubicBezTo>
                  <a:pt x="12215" y="6888"/>
                  <a:pt x="12239" y="7015"/>
                  <a:pt x="12254" y="7069"/>
                </a:cubicBezTo>
                <a:cubicBezTo>
                  <a:pt x="12284" y="7173"/>
                  <a:pt x="12293" y="7309"/>
                  <a:pt x="12278" y="7417"/>
                </a:cubicBezTo>
                <a:cubicBezTo>
                  <a:pt x="12253" y="7600"/>
                  <a:pt x="12192" y="7759"/>
                  <a:pt x="12080" y="7913"/>
                </a:cubicBezTo>
                <a:cubicBezTo>
                  <a:pt x="12045" y="7962"/>
                  <a:pt x="11962" y="8070"/>
                  <a:pt x="11906" y="8086"/>
                </a:cubicBezTo>
                <a:cubicBezTo>
                  <a:pt x="11833" y="8107"/>
                  <a:pt x="11781" y="8086"/>
                  <a:pt x="11733" y="8037"/>
                </a:cubicBezTo>
                <a:cubicBezTo>
                  <a:pt x="11680" y="7984"/>
                  <a:pt x="11667" y="7912"/>
                  <a:pt x="11683" y="7838"/>
                </a:cubicBezTo>
                <a:cubicBezTo>
                  <a:pt x="11701" y="7755"/>
                  <a:pt x="11762" y="7677"/>
                  <a:pt x="11857" y="7714"/>
                </a:cubicBezTo>
                <a:cubicBezTo>
                  <a:pt x="11897" y="7730"/>
                  <a:pt x="11968" y="7786"/>
                  <a:pt x="12005" y="7813"/>
                </a:cubicBezTo>
                <a:cubicBezTo>
                  <a:pt x="12051" y="7847"/>
                  <a:pt x="12086" y="7919"/>
                  <a:pt x="12129" y="7962"/>
                </a:cubicBezTo>
                <a:cubicBezTo>
                  <a:pt x="12152" y="7985"/>
                  <a:pt x="12156" y="7993"/>
                  <a:pt x="12179" y="7987"/>
                </a:cubicBezTo>
              </a:path>
              <a:path w="6822" h="2630">
                <a:moveTo>
                  <a:pt x="12526" y="7193"/>
                </a:moveTo>
                <a:cubicBezTo>
                  <a:pt x="12487" y="7274"/>
                  <a:pt x="12452" y="7330"/>
                  <a:pt x="12502" y="7417"/>
                </a:cubicBezTo>
                <a:cubicBezTo>
                  <a:pt x="12524" y="7455"/>
                  <a:pt x="12634" y="7507"/>
                  <a:pt x="12675" y="7516"/>
                </a:cubicBezTo>
                <a:cubicBezTo>
                  <a:pt x="12746" y="7532"/>
                  <a:pt x="12796" y="7508"/>
                  <a:pt x="12849" y="7466"/>
                </a:cubicBezTo>
              </a:path>
              <a:path w="6822" h="2630">
                <a:moveTo>
                  <a:pt x="12799" y="6821"/>
                </a:moveTo>
                <a:cubicBezTo>
                  <a:pt x="12754" y="6978"/>
                  <a:pt x="12725" y="7083"/>
                  <a:pt x="12725" y="7243"/>
                </a:cubicBezTo>
                <a:cubicBezTo>
                  <a:pt x="12725" y="7411"/>
                  <a:pt x="12759" y="7574"/>
                  <a:pt x="12774" y="7739"/>
                </a:cubicBezTo>
                <a:cubicBezTo>
                  <a:pt x="12779" y="7792"/>
                  <a:pt x="12766" y="8108"/>
                  <a:pt x="12799" y="8062"/>
                </a:cubicBezTo>
                <a:cubicBezTo>
                  <a:pt x="12807" y="8045"/>
                  <a:pt x="12816" y="8029"/>
                  <a:pt x="12824" y="8012"/>
                </a:cubicBezTo>
              </a:path>
              <a:path w="6822" h="2630">
                <a:moveTo>
                  <a:pt x="13047" y="6995"/>
                </a:moveTo>
                <a:cubicBezTo>
                  <a:pt x="13079" y="6932"/>
                  <a:pt x="13116" y="6817"/>
                  <a:pt x="13196" y="6796"/>
                </a:cubicBezTo>
                <a:cubicBezTo>
                  <a:pt x="13240" y="6784"/>
                  <a:pt x="13329" y="6790"/>
                  <a:pt x="13345" y="6846"/>
                </a:cubicBezTo>
                <a:cubicBezTo>
                  <a:pt x="13366" y="6919"/>
                  <a:pt x="13322" y="7005"/>
                  <a:pt x="13295" y="7069"/>
                </a:cubicBezTo>
                <a:cubicBezTo>
                  <a:pt x="13264" y="7143"/>
                  <a:pt x="13227" y="7187"/>
                  <a:pt x="13171" y="7243"/>
                </a:cubicBezTo>
                <a:cubicBezTo>
                  <a:pt x="13129" y="7286"/>
                  <a:pt x="13086" y="7313"/>
                  <a:pt x="13047" y="7342"/>
                </a:cubicBezTo>
                <a:cubicBezTo>
                  <a:pt x="13039" y="7350"/>
                  <a:pt x="13030" y="7359"/>
                  <a:pt x="13022" y="7367"/>
                </a:cubicBezTo>
                <a:cubicBezTo>
                  <a:pt x="13079" y="7395"/>
                  <a:pt x="13141" y="7329"/>
                  <a:pt x="13221" y="7317"/>
                </a:cubicBezTo>
                <a:cubicBezTo>
                  <a:pt x="13301" y="7305"/>
                  <a:pt x="13397" y="7296"/>
                  <a:pt x="13419" y="7392"/>
                </a:cubicBezTo>
                <a:cubicBezTo>
                  <a:pt x="13443" y="7498"/>
                  <a:pt x="13425" y="7636"/>
                  <a:pt x="13395" y="7739"/>
                </a:cubicBezTo>
                <a:cubicBezTo>
                  <a:pt x="13367" y="7834"/>
                  <a:pt x="13312" y="7915"/>
                  <a:pt x="13246" y="7987"/>
                </a:cubicBezTo>
                <a:cubicBezTo>
                  <a:pt x="13184" y="8054"/>
                  <a:pt x="13144" y="8045"/>
                  <a:pt x="13072" y="8037"/>
                </a:cubicBezTo>
                <a:cubicBezTo>
                  <a:pt x="12983" y="8027"/>
                  <a:pt x="12985" y="8001"/>
                  <a:pt x="12948" y="7938"/>
                </a:cubicBezTo>
                <a:cubicBezTo>
                  <a:pt x="12920" y="7910"/>
                  <a:pt x="12911" y="7896"/>
                  <a:pt x="12923" y="7863"/>
                </a:cubicBezTo>
              </a:path>
              <a:path w="6822" h="2630">
                <a:moveTo>
                  <a:pt x="13791" y="7243"/>
                </a:moveTo>
                <a:cubicBezTo>
                  <a:pt x="13900" y="7257"/>
                  <a:pt x="13972" y="7258"/>
                  <a:pt x="14064" y="7293"/>
                </a:cubicBezTo>
              </a:path>
              <a:path w="6822" h="2630">
                <a:moveTo>
                  <a:pt x="13667" y="7466"/>
                </a:moveTo>
                <a:cubicBezTo>
                  <a:pt x="13759" y="7484"/>
                  <a:pt x="13869" y="7510"/>
                  <a:pt x="13965" y="7491"/>
                </a:cubicBezTo>
                <a:cubicBezTo>
                  <a:pt x="13990" y="7483"/>
                  <a:pt x="14014" y="7474"/>
                  <a:pt x="14039" y="7466"/>
                </a:cubicBezTo>
              </a:path>
              <a:path w="6822" h="2630">
                <a:moveTo>
                  <a:pt x="14461" y="6821"/>
                </a:moveTo>
                <a:cubicBezTo>
                  <a:pt x="14567" y="6801"/>
                  <a:pt x="14687" y="6791"/>
                  <a:pt x="14784" y="6747"/>
                </a:cubicBezTo>
                <a:cubicBezTo>
                  <a:pt x="14827" y="6725"/>
                  <a:pt x="14839" y="6721"/>
                  <a:pt x="14858" y="6697"/>
                </a:cubicBezTo>
              </a:path>
              <a:path w="6822" h="2630">
                <a:moveTo>
                  <a:pt x="14436" y="6697"/>
                </a:moveTo>
                <a:cubicBezTo>
                  <a:pt x="14393" y="6784"/>
                  <a:pt x="14330" y="6853"/>
                  <a:pt x="14387" y="6945"/>
                </a:cubicBezTo>
                <a:cubicBezTo>
                  <a:pt x="14419" y="6996"/>
                  <a:pt x="14479" y="7011"/>
                  <a:pt x="14536" y="6995"/>
                </a:cubicBezTo>
                <a:cubicBezTo>
                  <a:pt x="14624" y="6970"/>
                  <a:pt x="14691" y="6931"/>
                  <a:pt x="14784" y="6970"/>
                </a:cubicBezTo>
                <a:cubicBezTo>
                  <a:pt x="14850" y="6998"/>
                  <a:pt x="14878" y="7057"/>
                  <a:pt x="14908" y="7119"/>
                </a:cubicBezTo>
                <a:cubicBezTo>
                  <a:pt x="14945" y="7194"/>
                  <a:pt x="14931" y="7248"/>
                  <a:pt x="14883" y="7317"/>
                </a:cubicBezTo>
                <a:cubicBezTo>
                  <a:pt x="14846" y="7370"/>
                  <a:pt x="14767" y="7389"/>
                  <a:pt x="14709" y="7392"/>
                </a:cubicBezTo>
                <a:cubicBezTo>
                  <a:pt x="14634" y="7396"/>
                  <a:pt x="14575" y="7386"/>
                  <a:pt x="14511" y="7342"/>
                </a:cubicBezTo>
                <a:cubicBezTo>
                  <a:pt x="14432" y="7287"/>
                  <a:pt x="14523" y="7251"/>
                  <a:pt x="14560" y="7218"/>
                </a:cubicBezTo>
              </a:path>
              <a:path w="6822" h="2630">
                <a:moveTo>
                  <a:pt x="15156" y="6648"/>
                </a:moveTo>
                <a:cubicBezTo>
                  <a:pt x="15148" y="6818"/>
                  <a:pt x="15100" y="6930"/>
                  <a:pt x="15056" y="7094"/>
                </a:cubicBezTo>
                <a:cubicBezTo>
                  <a:pt x="15015" y="7247"/>
                  <a:pt x="14984" y="7416"/>
                  <a:pt x="14932" y="7565"/>
                </a:cubicBezTo>
                <a:cubicBezTo>
                  <a:pt x="14891" y="7685"/>
                  <a:pt x="14836" y="7799"/>
                  <a:pt x="14784" y="7913"/>
                </a:cubicBezTo>
                <a:cubicBezTo>
                  <a:pt x="14755" y="7976"/>
                  <a:pt x="14743" y="7971"/>
                  <a:pt x="14734" y="8037"/>
                </a:cubicBezTo>
              </a:path>
              <a:path w="6822" h="2630">
                <a:moveTo>
                  <a:pt x="15255" y="7392"/>
                </a:moveTo>
                <a:cubicBezTo>
                  <a:pt x="15288" y="7385"/>
                  <a:pt x="15453" y="7326"/>
                  <a:pt x="15478" y="7392"/>
                </a:cubicBezTo>
                <a:cubicBezTo>
                  <a:pt x="15497" y="7441"/>
                  <a:pt x="15472" y="7574"/>
                  <a:pt x="15453" y="7615"/>
                </a:cubicBezTo>
                <a:cubicBezTo>
                  <a:pt x="15413" y="7703"/>
                  <a:pt x="15353" y="7785"/>
                  <a:pt x="15304" y="7863"/>
                </a:cubicBezTo>
                <a:cubicBezTo>
                  <a:pt x="15275" y="7910"/>
                  <a:pt x="15234" y="7942"/>
                  <a:pt x="15205" y="7987"/>
                </a:cubicBezTo>
                <a:cubicBezTo>
                  <a:pt x="15183" y="8031"/>
                  <a:pt x="15180" y="8042"/>
                  <a:pt x="15156" y="8062"/>
                </a:cubicBezTo>
                <a:cubicBezTo>
                  <a:pt x="15226" y="8096"/>
                  <a:pt x="15302" y="8089"/>
                  <a:pt x="15379" y="8111"/>
                </a:cubicBezTo>
                <a:cubicBezTo>
                  <a:pt x="15487" y="8142"/>
                  <a:pt x="15565" y="8138"/>
                  <a:pt x="15677" y="8111"/>
                </a:cubicBezTo>
                <a:cubicBezTo>
                  <a:pt x="15713" y="8102"/>
                  <a:pt x="15877" y="8099"/>
                  <a:pt x="15900" y="8062"/>
                </a:cubicBezTo>
                <a:cubicBezTo>
                  <a:pt x="15900" y="8054"/>
                  <a:pt x="15900" y="8045"/>
                  <a:pt x="15900" y="803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lve  for x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=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n 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Ink 4"/>
          <p:cNvSpPr/>
          <p:nvPr/>
        </p:nvSpPr>
        <p:spPr>
          <a:xfrm>
            <a:off x="1554120" y="1893960"/>
            <a:ext cx="1017720" cy="276120"/>
          </a:xfrm>
          <a:custGeom>
            <a:avLst/>
            <a:gdLst/>
            <a:ahLst/>
            <a:rect l="l" t="t" r="r" b="b"/>
            <a:pathLst>
              <a:path w="2829" h="770">
                <a:moveTo>
                  <a:pt x="4862" y="5333"/>
                </a:moveTo>
                <a:cubicBezTo>
                  <a:pt x="4812" y="5283"/>
                  <a:pt x="4768" y="5240"/>
                  <a:pt x="4688" y="5259"/>
                </a:cubicBezTo>
                <a:cubicBezTo>
                  <a:pt x="4650" y="5268"/>
                  <a:pt x="4546" y="5298"/>
                  <a:pt x="4514" y="5333"/>
                </a:cubicBezTo>
                <a:cubicBezTo>
                  <a:pt x="4459" y="5393"/>
                  <a:pt x="4407" y="5484"/>
                  <a:pt x="4366" y="5556"/>
                </a:cubicBezTo>
                <a:cubicBezTo>
                  <a:pt x="4332" y="5617"/>
                  <a:pt x="4303" y="5735"/>
                  <a:pt x="4316" y="5804"/>
                </a:cubicBezTo>
                <a:cubicBezTo>
                  <a:pt x="4332" y="5894"/>
                  <a:pt x="4443" y="6011"/>
                  <a:pt x="4539" y="6028"/>
                </a:cubicBezTo>
                <a:cubicBezTo>
                  <a:pt x="4628" y="6044"/>
                  <a:pt x="4707" y="6012"/>
                  <a:pt x="4787" y="5978"/>
                </a:cubicBezTo>
                <a:cubicBezTo>
                  <a:pt x="4866" y="5944"/>
                  <a:pt x="4920" y="5877"/>
                  <a:pt x="4961" y="5804"/>
                </a:cubicBezTo>
                <a:cubicBezTo>
                  <a:pt x="5001" y="5733"/>
                  <a:pt x="5031" y="5639"/>
                  <a:pt x="5011" y="5556"/>
                </a:cubicBezTo>
                <a:cubicBezTo>
                  <a:pt x="4996" y="5494"/>
                  <a:pt x="4939" y="5418"/>
                  <a:pt x="4887" y="5383"/>
                </a:cubicBezTo>
                <a:cubicBezTo>
                  <a:pt x="4842" y="5353"/>
                  <a:pt x="4812" y="5358"/>
                  <a:pt x="4762" y="5358"/>
                </a:cubicBezTo>
              </a:path>
              <a:path w="2829" h="770">
                <a:moveTo>
                  <a:pt x="5060" y="5829"/>
                </a:moveTo>
                <a:cubicBezTo>
                  <a:pt x="5117" y="5886"/>
                  <a:pt x="5140" y="5904"/>
                  <a:pt x="5209" y="5928"/>
                </a:cubicBezTo>
                <a:cubicBezTo>
                  <a:pt x="5295" y="5958"/>
                  <a:pt x="5365" y="5990"/>
                  <a:pt x="5457" y="6003"/>
                </a:cubicBezTo>
                <a:cubicBezTo>
                  <a:pt x="5566" y="6018"/>
                  <a:pt x="5667" y="6028"/>
                  <a:pt x="5779" y="6028"/>
                </a:cubicBezTo>
                <a:cubicBezTo>
                  <a:pt x="5912" y="6028"/>
                  <a:pt x="6046" y="6025"/>
                  <a:pt x="6176" y="6003"/>
                </a:cubicBezTo>
                <a:cubicBezTo>
                  <a:pt x="6333" y="5977"/>
                  <a:pt x="6497" y="5928"/>
                  <a:pt x="6648" y="5879"/>
                </a:cubicBezTo>
                <a:cubicBezTo>
                  <a:pt x="6726" y="5854"/>
                  <a:pt x="6801" y="5853"/>
                  <a:pt x="6871" y="5804"/>
                </a:cubicBezTo>
                <a:cubicBezTo>
                  <a:pt x="6897" y="5786"/>
                  <a:pt x="6888" y="5786"/>
                  <a:pt x="6896" y="5755"/>
                </a:cubicBezTo>
              </a:path>
              <a:path w="2829" h="770">
                <a:moveTo>
                  <a:pt x="6548" y="5755"/>
                </a:moveTo>
                <a:cubicBezTo>
                  <a:pt x="6504" y="5755"/>
                  <a:pt x="6491" y="5752"/>
                  <a:pt x="6474" y="5779"/>
                </a:cubicBezTo>
                <a:cubicBezTo>
                  <a:pt x="6539" y="5779"/>
                  <a:pt x="6618" y="5782"/>
                  <a:pt x="6672" y="5755"/>
                </a:cubicBezTo>
                <a:cubicBezTo>
                  <a:pt x="6723" y="5729"/>
                  <a:pt x="6774" y="5705"/>
                  <a:pt x="6821" y="5680"/>
                </a:cubicBezTo>
                <a:cubicBezTo>
                  <a:pt x="6875" y="5651"/>
                  <a:pt x="6937" y="5637"/>
                  <a:pt x="6970" y="5705"/>
                </a:cubicBezTo>
                <a:cubicBezTo>
                  <a:pt x="7005" y="5778"/>
                  <a:pt x="7038" y="5843"/>
                  <a:pt x="7094" y="5904"/>
                </a:cubicBezTo>
                <a:cubicBezTo>
                  <a:pt x="7128" y="5941"/>
                  <a:pt x="7113" y="5957"/>
                  <a:pt x="7144" y="597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Ink 5"/>
          <p:cNvSpPr/>
          <p:nvPr/>
        </p:nvSpPr>
        <p:spPr>
          <a:xfrm>
            <a:off x="3160800" y="1320840"/>
            <a:ext cx="1179360" cy="635040"/>
          </a:xfrm>
          <a:custGeom>
            <a:avLst/>
            <a:gdLst/>
            <a:ahLst/>
            <a:rect l="l" t="t" r="r" b="b"/>
            <a:pathLst>
              <a:path w="3275" h="1762">
                <a:moveTo>
                  <a:pt x="9054" y="4316"/>
                </a:moveTo>
                <a:cubicBezTo>
                  <a:pt x="9130" y="4362"/>
                  <a:pt x="9194" y="4328"/>
                  <a:pt x="9277" y="4316"/>
                </a:cubicBezTo>
                <a:cubicBezTo>
                  <a:pt x="9359" y="4304"/>
                  <a:pt x="9444" y="4303"/>
                  <a:pt x="9525" y="4291"/>
                </a:cubicBezTo>
                <a:cubicBezTo>
                  <a:pt x="9589" y="4282"/>
                  <a:pt x="9644" y="4310"/>
                  <a:pt x="9674" y="4266"/>
                </a:cubicBezTo>
              </a:path>
              <a:path w="3275" h="1762">
                <a:moveTo>
                  <a:pt x="9079" y="4316"/>
                </a:moveTo>
                <a:cubicBezTo>
                  <a:pt x="9032" y="4410"/>
                  <a:pt x="8971" y="4511"/>
                  <a:pt x="8954" y="4614"/>
                </a:cubicBezTo>
                <a:cubicBezTo>
                  <a:pt x="8948" y="4652"/>
                  <a:pt x="8927" y="4797"/>
                  <a:pt x="8930" y="4812"/>
                </a:cubicBezTo>
                <a:cubicBezTo>
                  <a:pt x="8938" y="4820"/>
                  <a:pt x="8946" y="4829"/>
                  <a:pt x="8954" y="4837"/>
                </a:cubicBezTo>
                <a:cubicBezTo>
                  <a:pt x="8976" y="4799"/>
                  <a:pt x="9010" y="4734"/>
                  <a:pt x="9054" y="4713"/>
                </a:cubicBezTo>
                <a:cubicBezTo>
                  <a:pt x="9131" y="4676"/>
                  <a:pt x="9168" y="4663"/>
                  <a:pt x="9252" y="4663"/>
                </a:cubicBezTo>
                <a:cubicBezTo>
                  <a:pt x="9323" y="4663"/>
                  <a:pt x="9419" y="4653"/>
                  <a:pt x="9475" y="4713"/>
                </a:cubicBezTo>
                <a:cubicBezTo>
                  <a:pt x="9525" y="4767"/>
                  <a:pt x="9586" y="4830"/>
                  <a:pt x="9599" y="4911"/>
                </a:cubicBezTo>
                <a:cubicBezTo>
                  <a:pt x="9612" y="4993"/>
                  <a:pt x="9620" y="5161"/>
                  <a:pt x="9575" y="5234"/>
                </a:cubicBezTo>
                <a:cubicBezTo>
                  <a:pt x="9521" y="5320"/>
                  <a:pt x="9396" y="5388"/>
                  <a:pt x="9302" y="5407"/>
                </a:cubicBezTo>
                <a:cubicBezTo>
                  <a:pt x="9210" y="5426"/>
                  <a:pt x="9113" y="5415"/>
                  <a:pt x="9029" y="5407"/>
                </a:cubicBezTo>
                <a:cubicBezTo>
                  <a:pt x="8960" y="5400"/>
                  <a:pt x="8914" y="5414"/>
                  <a:pt x="8855" y="5383"/>
                </a:cubicBezTo>
                <a:cubicBezTo>
                  <a:pt x="8771" y="5338"/>
                  <a:pt x="8787" y="5327"/>
                  <a:pt x="8806" y="5308"/>
                </a:cubicBezTo>
              </a:path>
              <a:path w="3275" h="1762">
                <a:moveTo>
                  <a:pt x="9971" y="3795"/>
                </a:moveTo>
                <a:cubicBezTo>
                  <a:pt x="10023" y="3898"/>
                  <a:pt x="10065" y="4010"/>
                  <a:pt x="10145" y="4093"/>
                </a:cubicBezTo>
                <a:cubicBezTo>
                  <a:pt x="10186" y="4135"/>
                  <a:pt x="10283" y="4225"/>
                  <a:pt x="10344" y="4242"/>
                </a:cubicBezTo>
                <a:cubicBezTo>
                  <a:pt x="10388" y="4242"/>
                  <a:pt x="10402" y="4245"/>
                  <a:pt x="10418" y="4217"/>
                </a:cubicBezTo>
              </a:path>
              <a:path w="3275" h="1762">
                <a:moveTo>
                  <a:pt x="10294" y="3671"/>
                </a:moveTo>
                <a:cubicBezTo>
                  <a:pt x="10285" y="3732"/>
                  <a:pt x="10252" y="3811"/>
                  <a:pt x="10220" y="3870"/>
                </a:cubicBezTo>
                <a:cubicBezTo>
                  <a:pt x="10166" y="3971"/>
                  <a:pt x="10096" y="4084"/>
                  <a:pt x="10021" y="4167"/>
                </a:cubicBezTo>
                <a:cubicBezTo>
                  <a:pt x="9980" y="4213"/>
                  <a:pt x="9930" y="4264"/>
                  <a:pt x="9897" y="4316"/>
                </a:cubicBezTo>
                <a:cubicBezTo>
                  <a:pt x="9889" y="4333"/>
                  <a:pt x="9880" y="4349"/>
                  <a:pt x="9872" y="4366"/>
                </a:cubicBezTo>
              </a:path>
              <a:path w="3275" h="1762">
                <a:moveTo>
                  <a:pt x="10542" y="4614"/>
                </a:moveTo>
                <a:cubicBezTo>
                  <a:pt x="10623" y="4592"/>
                  <a:pt x="10682" y="4589"/>
                  <a:pt x="10765" y="4589"/>
                </a:cubicBezTo>
                <a:cubicBezTo>
                  <a:pt x="10815" y="4589"/>
                  <a:pt x="10864" y="4589"/>
                  <a:pt x="10914" y="4589"/>
                </a:cubicBezTo>
              </a:path>
              <a:path w="3275" h="1762">
                <a:moveTo>
                  <a:pt x="10567" y="4762"/>
                </a:moveTo>
                <a:cubicBezTo>
                  <a:pt x="10631" y="4781"/>
                  <a:pt x="10662" y="4762"/>
                  <a:pt x="10740" y="4762"/>
                </a:cubicBezTo>
                <a:cubicBezTo>
                  <a:pt x="10806" y="4762"/>
                  <a:pt x="10823" y="4762"/>
                  <a:pt x="10864" y="4762"/>
                </a:cubicBezTo>
              </a:path>
              <a:path w="3275" h="1762">
                <a:moveTo>
                  <a:pt x="11609" y="4142"/>
                </a:moveTo>
                <a:cubicBezTo>
                  <a:pt x="11696" y="4150"/>
                  <a:pt x="11767" y="4167"/>
                  <a:pt x="11857" y="4167"/>
                </a:cubicBezTo>
                <a:cubicBezTo>
                  <a:pt x="11924" y="4167"/>
                  <a:pt x="12027" y="4185"/>
                  <a:pt x="12055" y="4142"/>
                </a:cubicBezTo>
              </a:path>
              <a:path w="3275" h="1762">
                <a:moveTo>
                  <a:pt x="11534" y="4192"/>
                </a:moveTo>
                <a:cubicBezTo>
                  <a:pt x="11489" y="4287"/>
                  <a:pt x="11387" y="4447"/>
                  <a:pt x="11410" y="4564"/>
                </a:cubicBezTo>
                <a:cubicBezTo>
                  <a:pt x="11418" y="4581"/>
                  <a:pt x="11427" y="4597"/>
                  <a:pt x="11435" y="4614"/>
                </a:cubicBezTo>
                <a:cubicBezTo>
                  <a:pt x="11497" y="4596"/>
                  <a:pt x="11518" y="4532"/>
                  <a:pt x="11584" y="4514"/>
                </a:cubicBezTo>
                <a:cubicBezTo>
                  <a:pt x="11636" y="4500"/>
                  <a:pt x="11698" y="4478"/>
                  <a:pt x="11757" y="4490"/>
                </a:cubicBezTo>
                <a:cubicBezTo>
                  <a:pt x="11835" y="4506"/>
                  <a:pt x="11932" y="4550"/>
                  <a:pt x="11981" y="4614"/>
                </a:cubicBezTo>
                <a:cubicBezTo>
                  <a:pt x="12037" y="4687"/>
                  <a:pt x="12051" y="4800"/>
                  <a:pt x="12055" y="4887"/>
                </a:cubicBezTo>
                <a:cubicBezTo>
                  <a:pt x="12059" y="4979"/>
                  <a:pt x="12045" y="5029"/>
                  <a:pt x="12005" y="5110"/>
                </a:cubicBezTo>
                <a:cubicBezTo>
                  <a:pt x="11973" y="5175"/>
                  <a:pt x="11909" y="5228"/>
                  <a:pt x="11832" y="5234"/>
                </a:cubicBezTo>
                <a:cubicBezTo>
                  <a:pt x="11679" y="5247"/>
                  <a:pt x="11575" y="5216"/>
                  <a:pt x="11435" y="5209"/>
                </a:cubicBezTo>
                <a:cubicBezTo>
                  <a:pt x="11343" y="5205"/>
                  <a:pt x="11348" y="5235"/>
                  <a:pt x="11361" y="51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Ink 6"/>
          <p:cNvSpPr/>
          <p:nvPr/>
        </p:nvSpPr>
        <p:spPr>
          <a:xfrm>
            <a:off x="3438360" y="2098800"/>
            <a:ext cx="473400" cy="295200"/>
          </a:xfrm>
          <a:custGeom>
            <a:avLst/>
            <a:gdLst/>
            <a:ahLst/>
            <a:rect l="l" t="t" r="r" b="b"/>
            <a:pathLst>
              <a:path w="1315" h="820">
                <a:moveTo>
                  <a:pt x="9649" y="5904"/>
                </a:moveTo>
                <a:cubicBezTo>
                  <a:pt x="9694" y="5959"/>
                  <a:pt x="9725" y="6041"/>
                  <a:pt x="9748" y="6102"/>
                </a:cubicBezTo>
                <a:cubicBezTo>
                  <a:pt x="9792" y="6217"/>
                  <a:pt x="9805" y="6318"/>
                  <a:pt x="9872" y="6424"/>
                </a:cubicBezTo>
                <a:cubicBezTo>
                  <a:pt x="9915" y="6493"/>
                  <a:pt x="9987" y="6576"/>
                  <a:pt x="10046" y="6623"/>
                </a:cubicBezTo>
                <a:cubicBezTo>
                  <a:pt x="10091" y="6659"/>
                  <a:pt x="10142" y="6648"/>
                  <a:pt x="10195" y="6648"/>
                </a:cubicBezTo>
              </a:path>
              <a:path w="1315" h="820">
                <a:moveTo>
                  <a:pt x="10046" y="5829"/>
                </a:moveTo>
                <a:cubicBezTo>
                  <a:pt x="10011" y="5958"/>
                  <a:pt x="9971" y="6041"/>
                  <a:pt x="9897" y="6152"/>
                </a:cubicBezTo>
                <a:cubicBezTo>
                  <a:pt x="9826" y="6258"/>
                  <a:pt x="9755" y="6375"/>
                  <a:pt x="9674" y="6474"/>
                </a:cubicBezTo>
                <a:cubicBezTo>
                  <a:pt x="9663" y="6487"/>
                  <a:pt x="9548" y="6603"/>
                  <a:pt x="9550" y="6623"/>
                </a:cubicBezTo>
                <a:cubicBezTo>
                  <a:pt x="9573" y="6646"/>
                  <a:pt x="9581" y="6657"/>
                  <a:pt x="9575" y="6623"/>
                </a:cubicBezTo>
              </a:path>
              <a:path w="1315" h="820">
                <a:moveTo>
                  <a:pt x="10567" y="6251"/>
                </a:moveTo>
                <a:cubicBezTo>
                  <a:pt x="10667" y="6257"/>
                  <a:pt x="10743" y="6276"/>
                  <a:pt x="10840" y="6276"/>
                </a:cubicBezTo>
                <a:cubicBezTo>
                  <a:pt x="10848" y="6276"/>
                  <a:pt x="10856" y="6276"/>
                  <a:pt x="10864" y="6276"/>
                </a:cubicBezTo>
              </a:path>
              <a:path w="1315" h="820">
                <a:moveTo>
                  <a:pt x="10492" y="6424"/>
                </a:moveTo>
                <a:cubicBezTo>
                  <a:pt x="10598" y="6453"/>
                  <a:pt x="10635" y="6429"/>
                  <a:pt x="10740" y="6424"/>
                </a:cubicBezTo>
                <a:cubicBezTo>
                  <a:pt x="10790" y="6424"/>
                  <a:pt x="10807" y="6424"/>
                  <a:pt x="10840" y="642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Ink 7"/>
          <p:cNvSpPr/>
          <p:nvPr/>
        </p:nvSpPr>
        <p:spPr>
          <a:xfrm>
            <a:off x="4098960" y="2081160"/>
            <a:ext cx="17280" cy="320760"/>
          </a:xfrm>
          <a:custGeom>
            <a:avLst/>
            <a:gdLst/>
            <a:ahLst/>
            <a:rect l="l" t="t" r="r" b="b"/>
            <a:pathLst>
              <a:path w="51" h="894">
                <a:moveTo>
                  <a:pt x="11410" y="5779"/>
                </a:moveTo>
                <a:cubicBezTo>
                  <a:pt x="11435" y="5869"/>
                  <a:pt x="11433" y="5916"/>
                  <a:pt x="11410" y="6003"/>
                </a:cubicBezTo>
                <a:cubicBezTo>
                  <a:pt x="11389" y="6084"/>
                  <a:pt x="11385" y="6142"/>
                  <a:pt x="11385" y="6226"/>
                </a:cubicBezTo>
                <a:cubicBezTo>
                  <a:pt x="11385" y="6323"/>
                  <a:pt x="11395" y="6408"/>
                  <a:pt x="11410" y="6499"/>
                </a:cubicBezTo>
                <a:cubicBezTo>
                  <a:pt x="11419" y="6553"/>
                  <a:pt x="11410" y="6617"/>
                  <a:pt x="11410" y="66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Ink 8"/>
          <p:cNvSpPr/>
          <p:nvPr/>
        </p:nvSpPr>
        <p:spPr>
          <a:xfrm>
            <a:off x="820800" y="2160720"/>
            <a:ext cx="2117520" cy="1982520"/>
          </a:xfrm>
          <a:custGeom>
            <a:avLst/>
            <a:gdLst/>
            <a:ahLst/>
            <a:rect l="l" t="t" r="r" b="b"/>
            <a:pathLst>
              <a:path w="5880" h="5507">
                <a:moveTo>
                  <a:pt x="3696" y="6325"/>
                </a:moveTo>
                <a:cubicBezTo>
                  <a:pt x="3621" y="6277"/>
                  <a:pt x="3552" y="6219"/>
                  <a:pt x="3473" y="6176"/>
                </a:cubicBezTo>
                <a:cubicBezTo>
                  <a:pt x="3395" y="6134"/>
                  <a:pt x="3312" y="6114"/>
                  <a:pt x="3225" y="6102"/>
                </a:cubicBezTo>
                <a:cubicBezTo>
                  <a:pt x="3129" y="6089"/>
                  <a:pt x="3043" y="6117"/>
                  <a:pt x="2952" y="6127"/>
                </a:cubicBezTo>
                <a:cubicBezTo>
                  <a:pt x="2841" y="6139"/>
                  <a:pt x="2779" y="6172"/>
                  <a:pt x="2679" y="6226"/>
                </a:cubicBezTo>
                <a:cubicBezTo>
                  <a:pt x="2591" y="6274"/>
                  <a:pt x="2527" y="6353"/>
                  <a:pt x="2456" y="6424"/>
                </a:cubicBezTo>
                <a:cubicBezTo>
                  <a:pt x="2409" y="6471"/>
                  <a:pt x="2301" y="6585"/>
                  <a:pt x="2282" y="6648"/>
                </a:cubicBezTo>
                <a:cubicBezTo>
                  <a:pt x="2256" y="6732"/>
                  <a:pt x="2275" y="6894"/>
                  <a:pt x="2307" y="6970"/>
                </a:cubicBezTo>
                <a:cubicBezTo>
                  <a:pt x="2344" y="7057"/>
                  <a:pt x="2366" y="7124"/>
                  <a:pt x="2431" y="7193"/>
                </a:cubicBezTo>
                <a:cubicBezTo>
                  <a:pt x="2506" y="7273"/>
                  <a:pt x="2589" y="7315"/>
                  <a:pt x="2679" y="7367"/>
                </a:cubicBezTo>
                <a:cubicBezTo>
                  <a:pt x="2802" y="7438"/>
                  <a:pt x="2933" y="7486"/>
                  <a:pt x="3076" y="7491"/>
                </a:cubicBezTo>
                <a:cubicBezTo>
                  <a:pt x="3182" y="7495"/>
                  <a:pt x="3359" y="7441"/>
                  <a:pt x="3448" y="7392"/>
                </a:cubicBezTo>
                <a:cubicBezTo>
                  <a:pt x="3533" y="7345"/>
                  <a:pt x="3585" y="7264"/>
                  <a:pt x="3646" y="7193"/>
                </a:cubicBezTo>
                <a:cubicBezTo>
                  <a:pt x="3706" y="7123"/>
                  <a:pt x="3758" y="7033"/>
                  <a:pt x="3795" y="6945"/>
                </a:cubicBezTo>
                <a:cubicBezTo>
                  <a:pt x="3830" y="6862"/>
                  <a:pt x="3859" y="6757"/>
                  <a:pt x="3870" y="6672"/>
                </a:cubicBezTo>
                <a:cubicBezTo>
                  <a:pt x="3881" y="6584"/>
                  <a:pt x="3877" y="6483"/>
                  <a:pt x="3845" y="6400"/>
                </a:cubicBezTo>
                <a:cubicBezTo>
                  <a:pt x="3799" y="6279"/>
                  <a:pt x="3766" y="6231"/>
                  <a:pt x="3671" y="6152"/>
                </a:cubicBezTo>
                <a:cubicBezTo>
                  <a:pt x="3597" y="6090"/>
                  <a:pt x="3498" y="6043"/>
                  <a:pt x="3398" y="6028"/>
                </a:cubicBezTo>
                <a:cubicBezTo>
                  <a:pt x="3281" y="6011"/>
                  <a:pt x="3168" y="6005"/>
                  <a:pt x="3051" y="6028"/>
                </a:cubicBezTo>
                <a:cubicBezTo>
                  <a:pt x="2937" y="6050"/>
                  <a:pt x="2829" y="6100"/>
                  <a:pt x="2729" y="6152"/>
                </a:cubicBezTo>
                <a:cubicBezTo>
                  <a:pt x="2622" y="6207"/>
                  <a:pt x="2514" y="6292"/>
                  <a:pt x="2456" y="6400"/>
                </a:cubicBezTo>
                <a:cubicBezTo>
                  <a:pt x="2421" y="6465"/>
                  <a:pt x="2377" y="6600"/>
                  <a:pt x="2381" y="6672"/>
                </a:cubicBezTo>
                <a:cubicBezTo>
                  <a:pt x="2389" y="6713"/>
                  <a:pt x="2398" y="6755"/>
                  <a:pt x="2406" y="6796"/>
                </a:cubicBezTo>
              </a:path>
              <a:path w="5880" h="5507">
                <a:moveTo>
                  <a:pt x="3026" y="7913"/>
                </a:moveTo>
                <a:cubicBezTo>
                  <a:pt x="3026" y="7986"/>
                  <a:pt x="3004" y="8041"/>
                  <a:pt x="3001" y="8111"/>
                </a:cubicBezTo>
                <a:cubicBezTo>
                  <a:pt x="2996" y="8214"/>
                  <a:pt x="2963" y="8308"/>
                  <a:pt x="2952" y="8409"/>
                </a:cubicBezTo>
                <a:cubicBezTo>
                  <a:pt x="2925" y="8654"/>
                  <a:pt x="2993" y="8914"/>
                  <a:pt x="2927" y="9153"/>
                </a:cubicBezTo>
              </a:path>
              <a:path w="5880" h="5507">
                <a:moveTo>
                  <a:pt x="3324" y="8434"/>
                </a:moveTo>
                <a:cubicBezTo>
                  <a:pt x="3324" y="8521"/>
                  <a:pt x="3317" y="8560"/>
                  <a:pt x="3299" y="8632"/>
                </a:cubicBezTo>
                <a:cubicBezTo>
                  <a:pt x="3275" y="8726"/>
                  <a:pt x="3231" y="8754"/>
                  <a:pt x="3225" y="8855"/>
                </a:cubicBezTo>
                <a:cubicBezTo>
                  <a:pt x="3220" y="8938"/>
                  <a:pt x="3235" y="8964"/>
                  <a:pt x="3274" y="9029"/>
                </a:cubicBezTo>
                <a:cubicBezTo>
                  <a:pt x="3316" y="9099"/>
                  <a:pt x="3340" y="9079"/>
                  <a:pt x="3423" y="9079"/>
                </a:cubicBezTo>
                <a:cubicBezTo>
                  <a:pt x="3553" y="9079"/>
                  <a:pt x="3543" y="9032"/>
                  <a:pt x="3646" y="8954"/>
                </a:cubicBezTo>
                <a:cubicBezTo>
                  <a:pt x="3723" y="8896"/>
                  <a:pt x="3743" y="8831"/>
                  <a:pt x="3746" y="8731"/>
                </a:cubicBezTo>
                <a:cubicBezTo>
                  <a:pt x="3750" y="8615"/>
                  <a:pt x="3739" y="8577"/>
                  <a:pt x="3696" y="8483"/>
                </a:cubicBezTo>
                <a:cubicBezTo>
                  <a:pt x="3659" y="8401"/>
                  <a:pt x="3642" y="8340"/>
                  <a:pt x="3547" y="8334"/>
                </a:cubicBezTo>
                <a:cubicBezTo>
                  <a:pt x="3483" y="8330"/>
                  <a:pt x="3374" y="8312"/>
                  <a:pt x="3324" y="8359"/>
                </a:cubicBezTo>
                <a:cubicBezTo>
                  <a:pt x="3273" y="8407"/>
                  <a:pt x="3213" y="8482"/>
                  <a:pt x="3200" y="8558"/>
                </a:cubicBezTo>
                <a:cubicBezTo>
                  <a:pt x="3184" y="8652"/>
                  <a:pt x="3205" y="8771"/>
                  <a:pt x="3249" y="8855"/>
                </a:cubicBezTo>
                <a:cubicBezTo>
                  <a:pt x="3274" y="8902"/>
                  <a:pt x="3341" y="8960"/>
                  <a:pt x="3373" y="9004"/>
                </a:cubicBezTo>
              </a:path>
              <a:path w="5880" h="5507">
                <a:moveTo>
                  <a:pt x="4366" y="8483"/>
                </a:moveTo>
                <a:cubicBezTo>
                  <a:pt x="4287" y="8395"/>
                  <a:pt x="4284" y="8409"/>
                  <a:pt x="4167" y="8409"/>
                </a:cubicBezTo>
                <a:cubicBezTo>
                  <a:pt x="4063" y="8409"/>
                  <a:pt x="4048" y="8508"/>
                  <a:pt x="3994" y="8558"/>
                </a:cubicBezTo>
                <a:cubicBezTo>
                  <a:pt x="3915" y="8631"/>
                  <a:pt x="3919" y="8669"/>
                  <a:pt x="3919" y="8781"/>
                </a:cubicBezTo>
                <a:cubicBezTo>
                  <a:pt x="3919" y="8861"/>
                  <a:pt x="3914" y="8894"/>
                  <a:pt x="3969" y="8954"/>
                </a:cubicBezTo>
                <a:cubicBezTo>
                  <a:pt x="4031" y="9021"/>
                  <a:pt x="4184" y="9069"/>
                  <a:pt x="4266" y="9004"/>
                </a:cubicBezTo>
                <a:cubicBezTo>
                  <a:pt x="4332" y="8952"/>
                  <a:pt x="4344" y="8878"/>
                  <a:pt x="4390" y="8806"/>
                </a:cubicBezTo>
                <a:cubicBezTo>
                  <a:pt x="4429" y="8745"/>
                  <a:pt x="4437" y="8704"/>
                  <a:pt x="4440" y="8632"/>
                </a:cubicBezTo>
                <a:cubicBezTo>
                  <a:pt x="4440" y="8558"/>
                  <a:pt x="4440" y="8533"/>
                  <a:pt x="4440" y="8483"/>
                </a:cubicBezTo>
                <a:cubicBezTo>
                  <a:pt x="4393" y="8563"/>
                  <a:pt x="4357" y="8639"/>
                  <a:pt x="4341" y="8731"/>
                </a:cubicBezTo>
                <a:cubicBezTo>
                  <a:pt x="4325" y="8823"/>
                  <a:pt x="4325" y="8936"/>
                  <a:pt x="4316" y="9029"/>
                </a:cubicBezTo>
                <a:cubicBezTo>
                  <a:pt x="4304" y="9149"/>
                  <a:pt x="4341" y="9278"/>
                  <a:pt x="4341" y="9401"/>
                </a:cubicBezTo>
                <a:cubicBezTo>
                  <a:pt x="4341" y="9528"/>
                  <a:pt x="4373" y="9704"/>
                  <a:pt x="4316" y="9823"/>
                </a:cubicBezTo>
                <a:cubicBezTo>
                  <a:pt x="4279" y="9900"/>
                  <a:pt x="4246" y="9897"/>
                  <a:pt x="4167" y="9897"/>
                </a:cubicBezTo>
                <a:cubicBezTo>
                  <a:pt x="4065" y="9897"/>
                  <a:pt x="4028" y="9895"/>
                  <a:pt x="3944" y="9847"/>
                </a:cubicBezTo>
                <a:cubicBezTo>
                  <a:pt x="3880" y="9810"/>
                  <a:pt x="3817" y="9813"/>
                  <a:pt x="3795" y="9748"/>
                </a:cubicBezTo>
                <a:cubicBezTo>
                  <a:pt x="3795" y="9723"/>
                  <a:pt x="3795" y="9699"/>
                  <a:pt x="3795" y="9674"/>
                </a:cubicBezTo>
              </a:path>
              <a:path w="5880" h="5507">
                <a:moveTo>
                  <a:pt x="4490" y="9079"/>
                </a:moveTo>
                <a:cubicBezTo>
                  <a:pt x="4627" y="9102"/>
                  <a:pt x="4680" y="9084"/>
                  <a:pt x="4812" y="9079"/>
                </a:cubicBezTo>
                <a:cubicBezTo>
                  <a:pt x="4829" y="9079"/>
                  <a:pt x="4845" y="9079"/>
                  <a:pt x="4862" y="9079"/>
                </a:cubicBezTo>
                <a:cubicBezTo>
                  <a:pt x="4879" y="9017"/>
                  <a:pt x="4910" y="8926"/>
                  <a:pt x="4837" y="8880"/>
                </a:cubicBezTo>
                <a:cubicBezTo>
                  <a:pt x="4754" y="8828"/>
                  <a:pt x="4683" y="8866"/>
                  <a:pt x="4614" y="8880"/>
                </a:cubicBezTo>
                <a:cubicBezTo>
                  <a:pt x="4540" y="8895"/>
                  <a:pt x="4496" y="8929"/>
                  <a:pt x="4465" y="9004"/>
                </a:cubicBezTo>
                <a:cubicBezTo>
                  <a:pt x="4426" y="9098"/>
                  <a:pt x="4455" y="9182"/>
                  <a:pt x="4539" y="9227"/>
                </a:cubicBezTo>
                <a:cubicBezTo>
                  <a:pt x="4612" y="9266"/>
                  <a:pt x="4683" y="9294"/>
                  <a:pt x="4762" y="9302"/>
                </a:cubicBezTo>
                <a:cubicBezTo>
                  <a:pt x="4810" y="9307"/>
                  <a:pt x="4862" y="9302"/>
                  <a:pt x="4911" y="9302"/>
                </a:cubicBezTo>
              </a:path>
              <a:path w="5880" h="5507">
                <a:moveTo>
                  <a:pt x="5234" y="8632"/>
                </a:moveTo>
                <a:cubicBezTo>
                  <a:pt x="5393" y="8632"/>
                  <a:pt x="5521" y="8627"/>
                  <a:pt x="5655" y="8582"/>
                </a:cubicBezTo>
                <a:cubicBezTo>
                  <a:pt x="5756" y="8548"/>
                  <a:pt x="5802" y="8486"/>
                  <a:pt x="5755" y="8409"/>
                </a:cubicBezTo>
                <a:cubicBezTo>
                  <a:pt x="5712" y="8338"/>
                  <a:pt x="5715" y="8334"/>
                  <a:pt x="5631" y="8334"/>
                </a:cubicBezTo>
                <a:cubicBezTo>
                  <a:pt x="5544" y="8334"/>
                  <a:pt x="5411" y="8311"/>
                  <a:pt x="5333" y="8359"/>
                </a:cubicBezTo>
                <a:cubicBezTo>
                  <a:pt x="5267" y="8400"/>
                  <a:pt x="5173" y="8492"/>
                  <a:pt x="5135" y="8558"/>
                </a:cubicBezTo>
                <a:cubicBezTo>
                  <a:pt x="5097" y="8623"/>
                  <a:pt x="5094" y="8718"/>
                  <a:pt x="5135" y="8781"/>
                </a:cubicBezTo>
                <a:cubicBezTo>
                  <a:pt x="5179" y="8849"/>
                  <a:pt x="5244" y="8908"/>
                  <a:pt x="5308" y="8930"/>
                </a:cubicBezTo>
                <a:cubicBezTo>
                  <a:pt x="5423" y="8969"/>
                  <a:pt x="5451" y="9004"/>
                  <a:pt x="5581" y="9004"/>
                </a:cubicBezTo>
                <a:cubicBezTo>
                  <a:pt x="5673" y="9004"/>
                  <a:pt x="5682" y="9003"/>
                  <a:pt x="5755" y="8954"/>
                </a:cubicBezTo>
              </a:path>
              <a:path w="5880" h="5507">
                <a:moveTo>
                  <a:pt x="6052" y="7938"/>
                </a:moveTo>
                <a:cubicBezTo>
                  <a:pt x="6031" y="8006"/>
                  <a:pt x="5953" y="8171"/>
                  <a:pt x="5978" y="8260"/>
                </a:cubicBezTo>
                <a:cubicBezTo>
                  <a:pt x="5995" y="8322"/>
                  <a:pt x="6023" y="8374"/>
                  <a:pt x="6077" y="8409"/>
                </a:cubicBezTo>
                <a:cubicBezTo>
                  <a:pt x="6104" y="8426"/>
                  <a:pt x="6241" y="8432"/>
                  <a:pt x="6276" y="8434"/>
                </a:cubicBezTo>
                <a:cubicBezTo>
                  <a:pt x="6360" y="8439"/>
                  <a:pt x="6426" y="8407"/>
                  <a:pt x="6474" y="8359"/>
                </a:cubicBezTo>
                <a:cubicBezTo>
                  <a:pt x="6520" y="8313"/>
                  <a:pt x="6488" y="8299"/>
                  <a:pt x="6449" y="8260"/>
                </a:cubicBezTo>
                <a:cubicBezTo>
                  <a:pt x="6420" y="8231"/>
                  <a:pt x="6344" y="8258"/>
                  <a:pt x="6300" y="8285"/>
                </a:cubicBezTo>
                <a:cubicBezTo>
                  <a:pt x="6246" y="8319"/>
                  <a:pt x="6213" y="8370"/>
                  <a:pt x="6226" y="8434"/>
                </a:cubicBezTo>
                <a:cubicBezTo>
                  <a:pt x="6235" y="8481"/>
                  <a:pt x="6259" y="8541"/>
                  <a:pt x="6276" y="8558"/>
                </a:cubicBezTo>
              </a:path>
              <a:path w="5880" h="5507">
                <a:moveTo>
                  <a:pt x="6722" y="8483"/>
                </a:moveTo>
                <a:cubicBezTo>
                  <a:pt x="6805" y="8483"/>
                  <a:pt x="6887" y="8483"/>
                  <a:pt x="6970" y="8483"/>
                </a:cubicBezTo>
              </a:path>
              <a:path w="5880" h="5507">
                <a:moveTo>
                  <a:pt x="6846" y="8731"/>
                </a:moveTo>
                <a:cubicBezTo>
                  <a:pt x="7053" y="8785"/>
                  <a:pt x="7070" y="8811"/>
                  <a:pt x="7243" y="8706"/>
                </a:cubicBezTo>
              </a:path>
              <a:path w="5880" h="5507">
                <a:moveTo>
                  <a:pt x="7392" y="8210"/>
                </a:moveTo>
                <a:cubicBezTo>
                  <a:pt x="7414" y="8290"/>
                  <a:pt x="7422" y="8340"/>
                  <a:pt x="7466" y="8409"/>
                </a:cubicBezTo>
                <a:cubicBezTo>
                  <a:pt x="7534" y="8516"/>
                  <a:pt x="7601" y="8615"/>
                  <a:pt x="7689" y="8706"/>
                </a:cubicBezTo>
                <a:cubicBezTo>
                  <a:pt x="7789" y="8809"/>
                  <a:pt x="7922" y="9006"/>
                  <a:pt x="8037" y="9079"/>
                </a:cubicBezTo>
                <a:cubicBezTo>
                  <a:pt x="8056" y="9091"/>
                  <a:pt x="8135" y="9098"/>
                  <a:pt x="8161" y="9103"/>
                </a:cubicBezTo>
              </a:path>
              <a:path w="5880" h="5507">
                <a:moveTo>
                  <a:pt x="7938" y="8210"/>
                </a:moveTo>
                <a:cubicBezTo>
                  <a:pt x="7826" y="8336"/>
                  <a:pt x="7628" y="8506"/>
                  <a:pt x="7541" y="8657"/>
                </a:cubicBezTo>
                <a:cubicBezTo>
                  <a:pt x="7477" y="8767"/>
                  <a:pt x="7429" y="8893"/>
                  <a:pt x="7367" y="9004"/>
                </a:cubicBezTo>
                <a:cubicBezTo>
                  <a:pt x="7317" y="9079"/>
                  <a:pt x="7301" y="9103"/>
                  <a:pt x="7268" y="9153"/>
                </a:cubicBezTo>
              </a:path>
              <a:path w="5880" h="5507">
                <a:moveTo>
                  <a:pt x="4936" y="8781"/>
                </a:moveTo>
                <a:cubicBezTo>
                  <a:pt x="4923" y="8700"/>
                  <a:pt x="4917" y="8687"/>
                  <a:pt x="4862" y="8632"/>
                </a:cubicBezTo>
                <a:cubicBezTo>
                  <a:pt x="4786" y="8556"/>
                  <a:pt x="4712" y="8558"/>
                  <a:pt x="4614" y="8558"/>
                </a:cubicBezTo>
                <a:cubicBezTo>
                  <a:pt x="4544" y="8558"/>
                  <a:pt x="4453" y="8543"/>
                  <a:pt x="4390" y="8582"/>
                </a:cubicBezTo>
                <a:cubicBezTo>
                  <a:pt x="4304" y="8635"/>
                  <a:pt x="4197" y="8764"/>
                  <a:pt x="4167" y="8855"/>
                </a:cubicBezTo>
                <a:cubicBezTo>
                  <a:pt x="4125" y="8983"/>
                  <a:pt x="4128" y="9027"/>
                  <a:pt x="4142" y="9153"/>
                </a:cubicBezTo>
                <a:cubicBezTo>
                  <a:pt x="4155" y="9269"/>
                  <a:pt x="4166" y="9310"/>
                  <a:pt x="4266" y="9376"/>
                </a:cubicBezTo>
                <a:cubicBezTo>
                  <a:pt x="4348" y="9430"/>
                  <a:pt x="4399" y="9445"/>
                  <a:pt x="4490" y="9475"/>
                </a:cubicBezTo>
                <a:cubicBezTo>
                  <a:pt x="4577" y="9504"/>
                  <a:pt x="4651" y="9502"/>
                  <a:pt x="4738" y="9475"/>
                </a:cubicBezTo>
                <a:cubicBezTo>
                  <a:pt x="4843" y="9442"/>
                  <a:pt x="4846" y="9418"/>
                  <a:pt x="4911" y="9327"/>
                </a:cubicBezTo>
                <a:cubicBezTo>
                  <a:pt x="4965" y="9251"/>
                  <a:pt x="4991" y="9181"/>
                  <a:pt x="5035" y="9103"/>
                </a:cubicBezTo>
                <a:cubicBezTo>
                  <a:pt x="5063" y="9054"/>
                  <a:pt x="5096" y="8945"/>
                  <a:pt x="5085" y="8880"/>
                </a:cubicBezTo>
                <a:cubicBezTo>
                  <a:pt x="5079" y="8847"/>
                  <a:pt x="5025" y="8720"/>
                  <a:pt x="4986" y="8706"/>
                </a:cubicBezTo>
                <a:cubicBezTo>
                  <a:pt x="4965" y="8699"/>
                  <a:pt x="4912" y="8706"/>
                  <a:pt x="4887" y="8706"/>
                </a:cubicBezTo>
              </a:path>
              <a:path w="5880" h="5507">
                <a:moveTo>
                  <a:pt x="4837" y="9227"/>
                </a:moveTo>
                <a:cubicBezTo>
                  <a:pt x="4894" y="9304"/>
                  <a:pt x="4956" y="9393"/>
                  <a:pt x="5035" y="9451"/>
                </a:cubicBezTo>
                <a:cubicBezTo>
                  <a:pt x="5095" y="9494"/>
                  <a:pt x="5217" y="9580"/>
                  <a:pt x="5283" y="9599"/>
                </a:cubicBezTo>
                <a:cubicBezTo>
                  <a:pt x="5386" y="9629"/>
                  <a:pt x="5503" y="9648"/>
                  <a:pt x="5606" y="9674"/>
                </a:cubicBezTo>
                <a:cubicBezTo>
                  <a:pt x="5758" y="9712"/>
                  <a:pt x="5839" y="9748"/>
                  <a:pt x="6003" y="9748"/>
                </a:cubicBezTo>
                <a:cubicBezTo>
                  <a:pt x="6196" y="9748"/>
                  <a:pt x="6323" y="9746"/>
                  <a:pt x="6499" y="9699"/>
                </a:cubicBezTo>
                <a:cubicBezTo>
                  <a:pt x="6627" y="9665"/>
                  <a:pt x="6767" y="9620"/>
                  <a:pt x="6896" y="9599"/>
                </a:cubicBezTo>
                <a:cubicBezTo>
                  <a:pt x="7021" y="9579"/>
                  <a:pt x="7098" y="9489"/>
                  <a:pt x="7218" y="9451"/>
                </a:cubicBezTo>
                <a:cubicBezTo>
                  <a:pt x="7281" y="9431"/>
                  <a:pt x="7358" y="9386"/>
                  <a:pt x="7392" y="9327"/>
                </a:cubicBezTo>
                <a:cubicBezTo>
                  <a:pt x="7427" y="9292"/>
                  <a:pt x="7440" y="9270"/>
                  <a:pt x="7441" y="9227"/>
                </a:cubicBezTo>
                <a:cubicBezTo>
                  <a:pt x="7352" y="9227"/>
                  <a:pt x="7278" y="9222"/>
                  <a:pt x="7193" y="9252"/>
                </a:cubicBezTo>
                <a:cubicBezTo>
                  <a:pt x="7117" y="9279"/>
                  <a:pt x="7027" y="9317"/>
                  <a:pt x="6945" y="9327"/>
                </a:cubicBezTo>
                <a:cubicBezTo>
                  <a:pt x="6852" y="9339"/>
                  <a:pt x="6845" y="9365"/>
                  <a:pt x="6747" y="9376"/>
                </a:cubicBezTo>
                <a:cubicBezTo>
                  <a:pt x="6739" y="9376"/>
                  <a:pt x="6730" y="9376"/>
                  <a:pt x="6722" y="9376"/>
                </a:cubicBezTo>
                <a:cubicBezTo>
                  <a:pt x="6747" y="9321"/>
                  <a:pt x="6746" y="9296"/>
                  <a:pt x="6796" y="9252"/>
                </a:cubicBezTo>
                <a:cubicBezTo>
                  <a:pt x="6859" y="9196"/>
                  <a:pt x="6912" y="9158"/>
                  <a:pt x="6995" y="9153"/>
                </a:cubicBezTo>
                <a:cubicBezTo>
                  <a:pt x="7078" y="9148"/>
                  <a:pt x="7139" y="9167"/>
                  <a:pt x="7218" y="9178"/>
                </a:cubicBezTo>
                <a:cubicBezTo>
                  <a:pt x="7267" y="9185"/>
                  <a:pt x="7398" y="9204"/>
                  <a:pt x="7441" y="9227"/>
                </a:cubicBezTo>
                <a:cubicBezTo>
                  <a:pt x="7476" y="9246"/>
                  <a:pt x="7511" y="9284"/>
                  <a:pt x="7541" y="9302"/>
                </a:cubicBezTo>
              </a:path>
              <a:path w="5880" h="5507">
                <a:moveTo>
                  <a:pt x="4837" y="10864"/>
                </a:moveTo>
                <a:cubicBezTo>
                  <a:pt x="4958" y="10864"/>
                  <a:pt x="5027" y="10867"/>
                  <a:pt x="5135" y="10815"/>
                </a:cubicBezTo>
                <a:cubicBezTo>
                  <a:pt x="5187" y="10790"/>
                  <a:pt x="5288" y="10751"/>
                  <a:pt x="5308" y="10691"/>
                </a:cubicBezTo>
                <a:cubicBezTo>
                  <a:pt x="5334" y="10613"/>
                  <a:pt x="5295" y="10552"/>
                  <a:pt x="5259" y="10492"/>
                </a:cubicBezTo>
                <a:cubicBezTo>
                  <a:pt x="5214" y="10417"/>
                  <a:pt x="5190" y="10422"/>
                  <a:pt x="5110" y="10418"/>
                </a:cubicBezTo>
                <a:cubicBezTo>
                  <a:pt x="5055" y="10415"/>
                  <a:pt x="4954" y="10400"/>
                  <a:pt x="4911" y="10443"/>
                </a:cubicBezTo>
                <a:cubicBezTo>
                  <a:pt x="4850" y="10504"/>
                  <a:pt x="4813" y="10570"/>
                  <a:pt x="4762" y="10641"/>
                </a:cubicBezTo>
                <a:cubicBezTo>
                  <a:pt x="4698" y="10731"/>
                  <a:pt x="4667" y="10771"/>
                  <a:pt x="4663" y="10889"/>
                </a:cubicBezTo>
                <a:cubicBezTo>
                  <a:pt x="4660" y="10976"/>
                  <a:pt x="4640" y="11110"/>
                  <a:pt x="4688" y="11187"/>
                </a:cubicBezTo>
                <a:cubicBezTo>
                  <a:pt x="4756" y="11296"/>
                  <a:pt x="4844" y="11390"/>
                  <a:pt x="4961" y="11435"/>
                </a:cubicBezTo>
                <a:cubicBezTo>
                  <a:pt x="5059" y="11473"/>
                  <a:pt x="5111" y="11475"/>
                  <a:pt x="5209" y="11460"/>
                </a:cubicBezTo>
              </a:path>
              <a:path w="5880" h="5507">
                <a:moveTo>
                  <a:pt x="5482" y="10071"/>
                </a:moveTo>
                <a:cubicBezTo>
                  <a:pt x="5508" y="10143"/>
                  <a:pt x="5535" y="10208"/>
                  <a:pt x="5581" y="10269"/>
                </a:cubicBezTo>
                <a:cubicBezTo>
                  <a:pt x="5631" y="10334"/>
                  <a:pt x="5676" y="10392"/>
                  <a:pt x="5730" y="10443"/>
                </a:cubicBezTo>
                <a:cubicBezTo>
                  <a:pt x="5780" y="10490"/>
                  <a:pt x="5819" y="10502"/>
                  <a:pt x="5879" y="10517"/>
                </a:cubicBezTo>
              </a:path>
              <a:path w="5880" h="5507">
                <a:moveTo>
                  <a:pt x="5680" y="9922"/>
                </a:moveTo>
                <a:cubicBezTo>
                  <a:pt x="5613" y="10025"/>
                  <a:pt x="5547" y="10134"/>
                  <a:pt x="5482" y="10220"/>
                </a:cubicBezTo>
                <a:cubicBezTo>
                  <a:pt x="5446" y="10268"/>
                  <a:pt x="5396" y="10389"/>
                  <a:pt x="5383" y="10443"/>
                </a:cubicBezTo>
                <a:cubicBezTo>
                  <a:pt x="5383" y="10459"/>
                  <a:pt x="5383" y="10476"/>
                  <a:pt x="5383" y="10492"/>
                </a:cubicBezTo>
              </a:path>
              <a:path w="5880" h="5507">
                <a:moveTo>
                  <a:pt x="6003" y="10988"/>
                </a:moveTo>
                <a:cubicBezTo>
                  <a:pt x="6069" y="10988"/>
                  <a:pt x="6135" y="10988"/>
                  <a:pt x="6201" y="10988"/>
                </a:cubicBezTo>
              </a:path>
              <a:path w="5880" h="5507">
                <a:moveTo>
                  <a:pt x="6052" y="11162"/>
                </a:moveTo>
                <a:cubicBezTo>
                  <a:pt x="6191" y="11222"/>
                  <a:pt x="6210" y="11247"/>
                  <a:pt x="6300" y="11237"/>
                </a:cubicBezTo>
              </a:path>
              <a:path w="5880" h="5507">
                <a:moveTo>
                  <a:pt x="6623" y="11063"/>
                </a:moveTo>
                <a:cubicBezTo>
                  <a:pt x="6685" y="11071"/>
                  <a:pt x="6755" y="11106"/>
                  <a:pt x="6821" y="11088"/>
                </a:cubicBezTo>
                <a:cubicBezTo>
                  <a:pt x="6921" y="11060"/>
                  <a:pt x="6995" y="11059"/>
                  <a:pt x="7094" y="11013"/>
                </a:cubicBezTo>
                <a:cubicBezTo>
                  <a:pt x="7130" y="10997"/>
                  <a:pt x="7220" y="10914"/>
                  <a:pt x="7218" y="10864"/>
                </a:cubicBezTo>
                <a:cubicBezTo>
                  <a:pt x="7215" y="10810"/>
                  <a:pt x="7165" y="10745"/>
                  <a:pt x="7119" y="10716"/>
                </a:cubicBezTo>
                <a:cubicBezTo>
                  <a:pt x="7067" y="10683"/>
                  <a:pt x="6957" y="10674"/>
                  <a:pt x="6896" y="10691"/>
                </a:cubicBezTo>
                <a:cubicBezTo>
                  <a:pt x="6847" y="10705"/>
                  <a:pt x="6783" y="10756"/>
                  <a:pt x="6747" y="10790"/>
                </a:cubicBezTo>
                <a:cubicBezTo>
                  <a:pt x="6697" y="10836"/>
                  <a:pt x="6638" y="10919"/>
                  <a:pt x="6623" y="10988"/>
                </a:cubicBezTo>
                <a:cubicBezTo>
                  <a:pt x="6609" y="11051"/>
                  <a:pt x="6612" y="11159"/>
                  <a:pt x="6648" y="11212"/>
                </a:cubicBezTo>
                <a:cubicBezTo>
                  <a:pt x="6701" y="11289"/>
                  <a:pt x="6771" y="11354"/>
                  <a:pt x="6846" y="11410"/>
                </a:cubicBezTo>
                <a:cubicBezTo>
                  <a:pt x="6920" y="11465"/>
                  <a:pt x="7051" y="11516"/>
                  <a:pt x="7144" y="11509"/>
                </a:cubicBezTo>
                <a:cubicBezTo>
                  <a:pt x="7169" y="11501"/>
                  <a:pt x="7193" y="11493"/>
                  <a:pt x="7218" y="11485"/>
                </a:cubicBezTo>
              </a:path>
              <a:path w="5880" h="5507">
                <a:moveTo>
                  <a:pt x="7441" y="10120"/>
                </a:moveTo>
                <a:cubicBezTo>
                  <a:pt x="7397" y="10210"/>
                  <a:pt x="7372" y="10270"/>
                  <a:pt x="7367" y="10368"/>
                </a:cubicBezTo>
                <a:cubicBezTo>
                  <a:pt x="7363" y="10438"/>
                  <a:pt x="7356" y="10505"/>
                  <a:pt x="7392" y="10567"/>
                </a:cubicBezTo>
                <a:cubicBezTo>
                  <a:pt x="7437" y="10643"/>
                  <a:pt x="7511" y="10695"/>
                  <a:pt x="7590" y="10740"/>
                </a:cubicBezTo>
                <a:cubicBezTo>
                  <a:pt x="7646" y="10772"/>
                  <a:pt x="7711" y="10766"/>
                  <a:pt x="7764" y="10740"/>
                </a:cubicBezTo>
                <a:cubicBezTo>
                  <a:pt x="7814" y="10716"/>
                  <a:pt x="7827" y="10638"/>
                  <a:pt x="7838" y="10592"/>
                </a:cubicBezTo>
                <a:cubicBezTo>
                  <a:pt x="7847" y="10555"/>
                  <a:pt x="7808" y="10434"/>
                  <a:pt x="7764" y="10418"/>
                </a:cubicBezTo>
                <a:cubicBezTo>
                  <a:pt x="7699" y="10395"/>
                  <a:pt x="7622" y="10470"/>
                  <a:pt x="7590" y="10517"/>
                </a:cubicBezTo>
                <a:cubicBezTo>
                  <a:pt x="7544" y="10586"/>
                  <a:pt x="7548" y="10709"/>
                  <a:pt x="7541" y="107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Ink 9"/>
          <p:cNvSpPr/>
          <p:nvPr/>
        </p:nvSpPr>
        <p:spPr>
          <a:xfrm>
            <a:off x="1884240" y="4276800"/>
            <a:ext cx="731880" cy="455400"/>
          </a:xfrm>
          <a:custGeom>
            <a:avLst/>
            <a:gdLst/>
            <a:ahLst/>
            <a:rect l="l" t="t" r="r" b="b"/>
            <a:pathLst>
              <a:path w="2035" h="1266">
                <a:moveTo>
                  <a:pt x="5234" y="12129"/>
                </a:moveTo>
                <a:cubicBezTo>
                  <a:pt x="5261" y="12202"/>
                  <a:pt x="5269" y="12282"/>
                  <a:pt x="5308" y="12353"/>
                </a:cubicBezTo>
                <a:cubicBezTo>
                  <a:pt x="5387" y="12498"/>
                  <a:pt x="5498" y="12650"/>
                  <a:pt x="5606" y="12774"/>
                </a:cubicBezTo>
                <a:cubicBezTo>
                  <a:pt x="5723" y="12909"/>
                  <a:pt x="5860" y="13040"/>
                  <a:pt x="6003" y="13146"/>
                </a:cubicBezTo>
              </a:path>
              <a:path w="2035" h="1266">
                <a:moveTo>
                  <a:pt x="5779" y="11881"/>
                </a:moveTo>
                <a:cubicBezTo>
                  <a:pt x="5675" y="11986"/>
                  <a:pt x="5657" y="12058"/>
                  <a:pt x="5581" y="12179"/>
                </a:cubicBezTo>
                <a:cubicBezTo>
                  <a:pt x="5505" y="12300"/>
                  <a:pt x="5467" y="12420"/>
                  <a:pt x="5407" y="12551"/>
                </a:cubicBezTo>
                <a:cubicBezTo>
                  <a:pt x="5361" y="12652"/>
                  <a:pt x="5303" y="12763"/>
                  <a:pt x="5283" y="12874"/>
                </a:cubicBezTo>
                <a:cubicBezTo>
                  <a:pt x="5274" y="12921"/>
                  <a:pt x="5299" y="12955"/>
                  <a:pt x="5308" y="12998"/>
                </a:cubicBezTo>
              </a:path>
              <a:path w="2035" h="1266">
                <a:moveTo>
                  <a:pt x="6028" y="12402"/>
                </a:moveTo>
                <a:cubicBezTo>
                  <a:pt x="6158" y="12402"/>
                  <a:pt x="6238" y="12414"/>
                  <a:pt x="6350" y="12378"/>
                </a:cubicBezTo>
              </a:path>
              <a:path w="2035" h="1266">
                <a:moveTo>
                  <a:pt x="6028" y="12526"/>
                </a:moveTo>
                <a:cubicBezTo>
                  <a:pt x="6108" y="12607"/>
                  <a:pt x="6154" y="12622"/>
                  <a:pt x="6276" y="12626"/>
                </a:cubicBezTo>
                <a:cubicBezTo>
                  <a:pt x="6368" y="12626"/>
                  <a:pt x="6394" y="12628"/>
                  <a:pt x="6449" y="12601"/>
                </a:cubicBezTo>
              </a:path>
              <a:path w="2035" h="1266">
                <a:moveTo>
                  <a:pt x="6821" y="11981"/>
                </a:moveTo>
                <a:cubicBezTo>
                  <a:pt x="6783" y="12028"/>
                  <a:pt x="6724" y="12102"/>
                  <a:pt x="6697" y="12154"/>
                </a:cubicBezTo>
                <a:cubicBezTo>
                  <a:pt x="6651" y="12241"/>
                  <a:pt x="6627" y="12356"/>
                  <a:pt x="6623" y="12452"/>
                </a:cubicBezTo>
                <a:cubicBezTo>
                  <a:pt x="6619" y="12566"/>
                  <a:pt x="6657" y="12651"/>
                  <a:pt x="6697" y="12750"/>
                </a:cubicBezTo>
                <a:cubicBezTo>
                  <a:pt x="6736" y="12845"/>
                  <a:pt x="6784" y="12936"/>
                  <a:pt x="6871" y="12998"/>
                </a:cubicBezTo>
                <a:cubicBezTo>
                  <a:pt x="6938" y="13046"/>
                  <a:pt x="7032" y="13018"/>
                  <a:pt x="7094" y="12973"/>
                </a:cubicBezTo>
                <a:cubicBezTo>
                  <a:pt x="7179" y="12910"/>
                  <a:pt x="7203" y="12842"/>
                  <a:pt x="7243" y="12750"/>
                </a:cubicBezTo>
                <a:cubicBezTo>
                  <a:pt x="7263" y="12703"/>
                  <a:pt x="7304" y="12586"/>
                  <a:pt x="7243" y="12551"/>
                </a:cubicBezTo>
                <a:cubicBezTo>
                  <a:pt x="7160" y="12504"/>
                  <a:pt x="7016" y="12570"/>
                  <a:pt x="6970" y="12650"/>
                </a:cubicBezTo>
                <a:cubicBezTo>
                  <a:pt x="6901" y="12770"/>
                  <a:pt x="6921" y="12942"/>
                  <a:pt x="6921" y="130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11:20:00Z</dcterms:created>
  <dc:creator>jnewman</dc:creator>
  <dc:description/>
  <dc:language>en-US</dc:language>
  <cp:lastModifiedBy>abeason</cp:lastModifiedBy>
  <dcterms:modified xsi:type="dcterms:W3CDTF">2010-06-07T13:45:33Z</dcterms:modified>
  <cp:revision>11</cp:revision>
  <dc:subject/>
  <dc:title>Lesson 3.2</dc:title>
</cp:coreProperties>
</file>